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5080" y="158760"/>
            <a:ext cx="8673840" cy="654048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35080" y="6254640"/>
            <a:ext cx="8673840" cy="44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7800" y="6324480"/>
            <a:ext cx="8510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665680" y="4533840"/>
            <a:ext cx="3213360" cy="1663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nitoring Sta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Nye County       Nye 1+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USGS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        TRHW03  7+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sition of Moving Monito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struments Mounted on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unnel Boring Machine</a:t>
            </a:r>
            <a:r>
              <a:rPr b="1" lang="en-US" sz="1000" spc="-1" strike="noStrike">
                <a:solidFill>
                  <a:srgbClr val="4271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66ff66"/>
                </a:solidFill>
                <a:latin typeface="Arial"/>
              </a:rPr>
              <a:t>___</a:t>
            </a:r>
            <a:r>
              <a:rPr b="1" lang="en-US" sz="1000" spc="-1" strike="noStrike">
                <a:solidFill>
                  <a:srgbClr val="4271ff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330099"/>
                </a:solidFill>
                <a:latin typeface="Arial"/>
              </a:rPr>
              <a:t>1-1-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71ff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4271ff"/>
                </a:solidFill>
                <a:latin typeface="Arial"/>
              </a:rPr>
              <a:t>Nye Probes 1, 2,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71ff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4271ff"/>
                </a:solidFill>
                <a:latin typeface="Arial"/>
              </a:rPr>
              <a:t>USGS TRH01, TRH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52680" y="66816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S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F and EC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24080" y="3173400"/>
            <a:ext cx="0" cy="22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117880" y="3209760"/>
            <a:ext cx="1094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3186000"/>
            <a:ext cx="0" cy="85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1760" y="3340080"/>
            <a:ext cx="122400" cy="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98600" y="3298320"/>
            <a:ext cx="0" cy="4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79840" y="3220920"/>
            <a:ext cx="0" cy="26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462480" y="3241800"/>
            <a:ext cx="13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45520" y="1465200"/>
            <a:ext cx="0" cy="188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97800" y="1442880"/>
            <a:ext cx="0" cy="188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6320" y="73512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90800" y="135720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15100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49280" y="256536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0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3320" y="341784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24120" y="852480"/>
            <a:ext cx="211320" cy="1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35320" y="1476360"/>
            <a:ext cx="21276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8480" y="2109960"/>
            <a:ext cx="211320" cy="12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0840" y="2739960"/>
            <a:ext cx="210960" cy="1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5920" y="364500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0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00920" y="3293280"/>
            <a:ext cx="198360" cy="2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51240" y="3370320"/>
            <a:ext cx="0" cy="27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17880" y="363384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32080" y="3409920"/>
            <a:ext cx="0" cy="24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89360" y="368784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0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98880" y="346068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3560" y="375300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68920" y="350532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19880" y="3567240"/>
            <a:ext cx="0" cy="24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6680" y="360216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24520" y="38545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60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47000" y="3643200"/>
            <a:ext cx="0" cy="24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54840" y="319896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6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81800" y="3330360"/>
            <a:ext cx="24624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7640" y="2630160"/>
            <a:ext cx="246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0400" y="252396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70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7640" y="1960200"/>
            <a:ext cx="2462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80400" y="184788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7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78560" y="1446480"/>
            <a:ext cx="304920" cy="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86520" y="133524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78+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351160" y="3102840"/>
            <a:ext cx="18072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8040" y="376884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0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3680" y="381312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738240" y="4932000"/>
            <a:ext cx="191880" cy="15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160880" y="5582160"/>
            <a:ext cx="193680" cy="15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7840" y="2978280"/>
            <a:ext cx="56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4760" y="387036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52640" y="442908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82920" y="503244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0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75000" y="5411880"/>
            <a:ext cx="4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5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520640" y="231840"/>
            <a:ext cx="1616040" cy="27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57240" y="3530520"/>
            <a:ext cx="5221440" cy="3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876320" y="3376440"/>
            <a:ext cx="5183280" cy="3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8600" y="237960"/>
            <a:ext cx="1595160" cy="2733840"/>
          </a:xfrm>
          <a:custGeom>
            <a:avLst/>
            <a:gdLst/>
            <a:ahLst/>
            <a:rect l="l" t="t" r="r" b="b"/>
            <a:pathLst>
              <a:path w="900" h="1545">
                <a:moveTo>
                  <a:pt x="0" y="1545"/>
                </a:moveTo>
                <a:lnTo>
                  <a:pt x="900" y="39"/>
                </a:lnTo>
                <a:lnTo>
                  <a:pt x="8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92160" y="2619360"/>
            <a:ext cx="2405160" cy="3000240"/>
          </a:xfrm>
          <a:custGeom>
            <a:avLst/>
            <a:gdLst/>
            <a:ahLst/>
            <a:rect l="l" t="t" r="r" b="b"/>
            <a:pathLst>
              <a:path w="1428" h="1776">
                <a:moveTo>
                  <a:pt x="0" y="0"/>
                </a:moveTo>
                <a:lnTo>
                  <a:pt x="51" y="111"/>
                </a:lnTo>
                <a:lnTo>
                  <a:pt x="324" y="294"/>
                </a:lnTo>
                <a:lnTo>
                  <a:pt x="1401" y="1716"/>
                </a:lnTo>
                <a:lnTo>
                  <a:pt x="1428" y="17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85960" y="2776680"/>
            <a:ext cx="2435040" cy="2898720"/>
          </a:xfrm>
          <a:custGeom>
            <a:avLst/>
            <a:gdLst/>
            <a:ahLst/>
            <a:rect l="l" t="t" r="r" b="b"/>
            <a:pathLst>
              <a:path w="1446" h="1713">
                <a:moveTo>
                  <a:pt x="0" y="0"/>
                </a:moveTo>
                <a:lnTo>
                  <a:pt x="351" y="240"/>
                </a:lnTo>
                <a:lnTo>
                  <a:pt x="1416" y="1647"/>
                </a:lnTo>
                <a:lnTo>
                  <a:pt x="1446" y="171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87680" y="3611520"/>
            <a:ext cx="1159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73600" y="5249160"/>
            <a:ext cx="792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111200" y="5803560"/>
            <a:ext cx="12060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062160" y="247680"/>
            <a:ext cx="44640" cy="2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945880" y="433440"/>
            <a:ext cx="49320" cy="3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517840" y="1138320"/>
            <a:ext cx="55440" cy="4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65120" y="1576080"/>
            <a:ext cx="44280" cy="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2000" y="3556080"/>
            <a:ext cx="0" cy="81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17760" y="3606840"/>
            <a:ext cx="180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84440" y="3618000"/>
            <a:ext cx="0" cy="6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21400" y="3274560"/>
            <a:ext cx="0" cy="327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06560" y="3742920"/>
            <a:ext cx="192240" cy="15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44680" y="4326840"/>
            <a:ext cx="193320" cy="15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51680" y="3289320"/>
            <a:ext cx="398520" cy="404640"/>
          </a:xfrm>
          <a:custGeom>
            <a:avLst/>
            <a:gdLst/>
            <a:ahLst/>
            <a:rect l="l" t="t" r="r" b="b"/>
            <a:pathLst>
              <a:path w="231" h="217">
                <a:moveTo>
                  <a:pt x="0" y="217"/>
                </a:moveTo>
                <a:cubicBezTo>
                  <a:pt x="23" y="216"/>
                  <a:pt x="46" y="215"/>
                  <a:pt x="66" y="211"/>
                </a:cubicBezTo>
                <a:cubicBezTo>
                  <a:pt x="86" y="207"/>
                  <a:pt x="102" y="200"/>
                  <a:pt x="118" y="191"/>
                </a:cubicBezTo>
                <a:cubicBezTo>
                  <a:pt x="134" y="182"/>
                  <a:pt x="150" y="173"/>
                  <a:pt x="165" y="158"/>
                </a:cubicBezTo>
                <a:cubicBezTo>
                  <a:pt x="180" y="143"/>
                  <a:pt x="200" y="125"/>
                  <a:pt x="211" y="99"/>
                </a:cubicBezTo>
                <a:cubicBezTo>
                  <a:pt x="222" y="73"/>
                  <a:pt x="226" y="36"/>
                  <a:pt x="231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889360"/>
            <a:ext cx="425160" cy="647640"/>
          </a:xfrm>
          <a:custGeom>
            <a:avLst/>
            <a:gdLst/>
            <a:ahLst/>
            <a:rect l="l" t="t" r="r" b="b"/>
            <a:pathLst>
              <a:path w="323" h="464">
                <a:moveTo>
                  <a:pt x="86" y="0"/>
                </a:moveTo>
                <a:cubicBezTo>
                  <a:pt x="63" y="28"/>
                  <a:pt x="40" y="57"/>
                  <a:pt x="27" y="99"/>
                </a:cubicBezTo>
                <a:cubicBezTo>
                  <a:pt x="14" y="141"/>
                  <a:pt x="0" y="206"/>
                  <a:pt x="7" y="251"/>
                </a:cubicBezTo>
                <a:cubicBezTo>
                  <a:pt x="14" y="296"/>
                  <a:pt x="35" y="337"/>
                  <a:pt x="66" y="370"/>
                </a:cubicBezTo>
                <a:cubicBezTo>
                  <a:pt x="97" y="403"/>
                  <a:pt x="149" y="434"/>
                  <a:pt x="192" y="449"/>
                </a:cubicBezTo>
                <a:cubicBezTo>
                  <a:pt x="235" y="464"/>
                  <a:pt x="279" y="463"/>
                  <a:pt x="323" y="46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935440"/>
            <a:ext cx="274680" cy="439560"/>
          </a:xfrm>
          <a:custGeom>
            <a:avLst/>
            <a:gdLst/>
            <a:ahLst/>
            <a:rect l="l" t="t" r="r" b="b"/>
            <a:pathLst>
              <a:path w="180" h="330">
                <a:moveTo>
                  <a:pt x="62" y="0"/>
                </a:moveTo>
                <a:cubicBezTo>
                  <a:pt x="47" y="24"/>
                  <a:pt x="32" y="48"/>
                  <a:pt x="22" y="79"/>
                </a:cubicBezTo>
                <a:cubicBezTo>
                  <a:pt x="12" y="110"/>
                  <a:pt x="0" y="155"/>
                  <a:pt x="2" y="185"/>
                </a:cubicBezTo>
                <a:cubicBezTo>
                  <a:pt x="4" y="215"/>
                  <a:pt x="22" y="238"/>
                  <a:pt x="35" y="257"/>
                </a:cubicBezTo>
                <a:cubicBezTo>
                  <a:pt x="48" y="276"/>
                  <a:pt x="57" y="285"/>
                  <a:pt x="81" y="297"/>
                </a:cubicBezTo>
                <a:cubicBezTo>
                  <a:pt x="105" y="309"/>
                  <a:pt x="142" y="319"/>
                  <a:pt x="180" y="33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62480" y="3529080"/>
            <a:ext cx="0" cy="2858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96880" y="485640"/>
            <a:ext cx="6227640" cy="3465360"/>
            <a:chOff x="1496880" y="485640"/>
            <a:chExt cx="6227640" cy="3465360"/>
          </a:xfrm>
        </p:grpSpPr>
        <p:sp>
          <p:nvSpPr>
            <p:cNvPr id="115" name=""/>
            <p:cNvSpPr/>
            <p:nvPr/>
          </p:nvSpPr>
          <p:spPr>
            <a:xfrm>
              <a:off x="2991960" y="485640"/>
              <a:ext cx="268560" cy="1346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320" y="687240"/>
              <a:ext cx="268560" cy="1346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23040" y="942120"/>
              <a:ext cx="268560" cy="1342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50320" y="1051200"/>
              <a:ext cx="268560" cy="1342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57000" y="1384560"/>
              <a:ext cx="268560" cy="1346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18400" y="1635480"/>
              <a:ext cx="268560" cy="1342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0000" y="1633680"/>
              <a:ext cx="268560" cy="1346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34280" y="1976040"/>
              <a:ext cx="258480" cy="1530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96880" y="2724480"/>
              <a:ext cx="268560" cy="1346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630080" y="3367440"/>
              <a:ext cx="198000" cy="226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0320" y="3298680"/>
              <a:ext cx="0" cy="268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7840" y="3340800"/>
              <a:ext cx="0" cy="2685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3480" y="3413520"/>
              <a:ext cx="0" cy="268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37920" y="3479400"/>
              <a:ext cx="0" cy="268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20680" y="3609360"/>
              <a:ext cx="0" cy="268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1880" y="3542400"/>
              <a:ext cx="0" cy="2685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0960" y="3584520"/>
              <a:ext cx="0" cy="268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08280" y="3682440"/>
              <a:ext cx="0" cy="2685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72800" y="3561480"/>
              <a:ext cx="192600" cy="223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450560" y="3386880"/>
              <a:ext cx="2685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445880" y="2895480"/>
              <a:ext cx="2685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454520" y="2523960"/>
              <a:ext cx="26856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331400" y="2464200"/>
              <a:ext cx="2685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455960" y="2423520"/>
              <a:ext cx="2685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451640" y="1910880"/>
              <a:ext cx="2685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455960" y="1703520"/>
              <a:ext cx="26856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455960" y="1454400"/>
              <a:ext cx="26856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0400" y="56340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"/>
              </a:rPr>
              <a:t>2-1-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3640" y="977760"/>
            <a:ext cx="53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"/>
              </a:rPr>
              <a:t>4-1-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28120" y="2297160"/>
            <a:ext cx="63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3333cc"/>
                </a:solidFill>
                <a:latin typeface="Arial"/>
              </a:rPr>
              <a:t>2-1-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036800" y="352440"/>
            <a:ext cx="7330680" cy="3801960"/>
            <a:chOff x="1036800" y="352440"/>
            <a:chExt cx="7330680" cy="3801960"/>
          </a:xfrm>
        </p:grpSpPr>
        <p:grpSp>
          <p:nvGrpSpPr>
            <p:cNvPr id="146" name=""/>
            <p:cNvGrpSpPr/>
            <p:nvPr/>
          </p:nvGrpSpPr>
          <p:grpSpPr>
            <a:xfrm>
              <a:off x="3059280" y="352440"/>
              <a:ext cx="738720" cy="282600"/>
              <a:chOff x="3059280" y="352440"/>
              <a:chExt cx="738720" cy="282600"/>
            </a:xfrm>
          </p:grpSpPr>
          <p:sp>
            <p:nvSpPr>
              <p:cNvPr id="147" name=""/>
              <p:cNvSpPr/>
              <p:nvPr/>
            </p:nvSpPr>
            <p:spPr>
              <a:xfrm>
                <a:off x="3059280" y="352440"/>
                <a:ext cx="268560" cy="133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60520" y="419400"/>
                <a:ext cx="53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Arial"/>
                  </a:rPr>
                  <a:t>1-1-9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3090240" y="718920"/>
              <a:ext cx="53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3-1-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66320" y="1116720"/>
              <a:ext cx="54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5-1-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84520" y="1424520"/>
              <a:ext cx="53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6-1-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27560" y="1674000"/>
              <a:ext cx="53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7-1-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40600" y="15199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8-1-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8400" y="18331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9-1-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36800" y="2673000"/>
              <a:ext cx="60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10-1-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45240" y="3551040"/>
              <a:ext cx="62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11-1-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1800" y="311688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12-1-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55320" y="315756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1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3440" y="324720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2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50080" y="376632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3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22640" y="32936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4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0760" y="392472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5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4560" y="33440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6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35880" y="33998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7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8200" y="393876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8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9880" y="37472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9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95720" y="3308760"/>
              <a:ext cx="63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10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28120" y="279396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11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28120" y="24098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12-1-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00840" y="236412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1-1-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8760" y="176328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3-1-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8760" y="156168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4-1-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8760" y="136008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5-1-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H="1" flipV="1">
            <a:off x="2130480" y="898560"/>
            <a:ext cx="388800" cy="249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827360" y="1327320"/>
            <a:ext cx="411120" cy="249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631880" y="1479240"/>
            <a:ext cx="628560" cy="11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120" y="1357200"/>
            <a:ext cx="934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05 Rear of Alcov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631520" y="3556080"/>
            <a:ext cx="601560" cy="28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1840" y="38750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W07  28+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738600" y="2911320"/>
            <a:ext cx="220680" cy="581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39520" y="273060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W08  38+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83200" y="706320"/>
            <a:ext cx="88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W03  7+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28040" y="113976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W04  11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11440" y="203508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06  74+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59600" y="2108160"/>
            <a:ext cx="38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97320" y="2558880"/>
            <a:ext cx="0" cy="9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11520" y="2082960"/>
            <a:ext cx="1431720" cy="47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Arial"/>
              </a:rPr>
              <a:t>Nye  35+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Arial"/>
              </a:rPr>
              <a:t>11/20/97 - 12/16/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59160" y="3867120"/>
            <a:ext cx="433440" cy="3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43280" y="4253040"/>
            <a:ext cx="885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W   10+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468600" y="5173560"/>
            <a:ext cx="416160" cy="4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7880" y="5635800"/>
            <a:ext cx="88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W   21+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24080" y="2635200"/>
            <a:ext cx="922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W  0+26, 2+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2+88, 3+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066760" y="2568240"/>
            <a:ext cx="111240" cy="3049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8840" y="2392200"/>
            <a:ext cx="6480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Arial"/>
              </a:rPr>
              <a:t>Nye 1+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364760" y="3002040"/>
            <a:ext cx="785880" cy="1857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680" y="3048120"/>
            <a:ext cx="80136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" y="3073320"/>
            <a:ext cx="647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Arial"/>
              </a:rPr>
              <a:t>Nye 2+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804680" y="3417840"/>
            <a:ext cx="770040" cy="846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09600" y="4243320"/>
            <a:ext cx="647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Arial"/>
              </a:rPr>
              <a:t>Nye 7+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62440" y="3787920"/>
            <a:ext cx="392040" cy="64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3080" y="3954600"/>
            <a:ext cx="801720" cy="28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2560" y="3749760"/>
            <a:ext cx="7095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Arial"/>
              </a:rPr>
              <a:t>Nye 10+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58160" y="3314880"/>
            <a:ext cx="549000" cy="55080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388" y="0"/>
                </a:moveTo>
                <a:cubicBezTo>
                  <a:pt x="390" y="20"/>
                  <a:pt x="393" y="40"/>
                  <a:pt x="388" y="72"/>
                </a:cubicBezTo>
                <a:cubicBezTo>
                  <a:pt x="383" y="104"/>
                  <a:pt x="371" y="161"/>
                  <a:pt x="360" y="192"/>
                </a:cubicBezTo>
                <a:cubicBezTo>
                  <a:pt x="349" y="223"/>
                  <a:pt x="335" y="241"/>
                  <a:pt x="320" y="260"/>
                </a:cubicBezTo>
                <a:cubicBezTo>
                  <a:pt x="305" y="279"/>
                  <a:pt x="291" y="293"/>
                  <a:pt x="272" y="308"/>
                </a:cubicBezTo>
                <a:cubicBezTo>
                  <a:pt x="253" y="323"/>
                  <a:pt x="229" y="339"/>
                  <a:pt x="204" y="352"/>
                </a:cubicBezTo>
                <a:cubicBezTo>
                  <a:pt x="179" y="365"/>
                  <a:pt x="154" y="382"/>
                  <a:pt x="120" y="388"/>
                </a:cubicBezTo>
                <a:cubicBezTo>
                  <a:pt x="86" y="394"/>
                  <a:pt x="19" y="388"/>
                  <a:pt x="0" y="38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232160" y="5322960"/>
            <a:ext cx="208080" cy="1699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6880" y="5165640"/>
            <a:ext cx="7095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Arial"/>
              </a:rPr>
              <a:t>Nye 24+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873960" y="4847040"/>
            <a:ext cx="197640" cy="153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29120" y="4695840"/>
            <a:ext cx="7095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Arial"/>
              </a:rPr>
              <a:t>Nye 20+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362400" y="4176360"/>
            <a:ext cx="203040" cy="168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89480" y="4006800"/>
            <a:ext cx="7095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Arial"/>
              </a:rPr>
              <a:t>Nye 14+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229280" y="5626080"/>
            <a:ext cx="101520" cy="465120"/>
            <a:chOff x="4229280" y="5626080"/>
            <a:chExt cx="101520" cy="465120"/>
          </a:xfrm>
        </p:grpSpPr>
        <p:sp>
          <p:nvSpPr>
            <p:cNvPr id="211" name=""/>
            <p:cNvSpPr/>
            <p:nvPr/>
          </p:nvSpPr>
          <p:spPr>
            <a:xfrm>
              <a:off x="4296960" y="5626080"/>
              <a:ext cx="33480" cy="465120"/>
            </a:xfrm>
            <a:custGeom>
              <a:avLst/>
              <a:gdLst/>
              <a:ahLst/>
              <a:rect l="l" t="t" r="r" b="b"/>
              <a:pathLst>
                <a:path w="24" h="332">
                  <a:moveTo>
                    <a:pt x="0" y="0"/>
                  </a:moveTo>
                  <a:lnTo>
                    <a:pt x="24" y="56"/>
                  </a:lnTo>
                  <a:lnTo>
                    <a:pt x="24" y="33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29280" y="5693400"/>
              <a:ext cx="101520" cy="397800"/>
            </a:xfrm>
            <a:custGeom>
              <a:avLst/>
              <a:gdLst/>
              <a:ahLst/>
              <a:rect l="l" t="t" r="r" b="b"/>
              <a:pathLst>
                <a:path w="72" h="284">
                  <a:moveTo>
                    <a:pt x="0" y="0"/>
                  </a:moveTo>
                  <a:lnTo>
                    <a:pt x="4" y="24"/>
                  </a:lnTo>
                  <a:lnTo>
                    <a:pt x="4" y="284"/>
                  </a:lnTo>
                  <a:lnTo>
                    <a:pt x="72" y="2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968400" y="4960800"/>
            <a:ext cx="1101600" cy="1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77560" y="49132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lonna MT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36520" y="5665680"/>
            <a:ext cx="16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Not to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262160" y="2409840"/>
            <a:ext cx="63000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476360" y="2090520"/>
            <a:ext cx="401760" cy="529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6760" y="195732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  Vent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ECR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5640" y="22273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TRH  on TB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ECR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19400" y="2779560"/>
            <a:ext cx="201600" cy="184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29560" y="3282840"/>
            <a:ext cx="514440" cy="23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28120" y="2779560"/>
            <a:ext cx="522000" cy="23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89680" y="2325600"/>
            <a:ext cx="44604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04000" y="1779480"/>
            <a:ext cx="446400" cy="23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04000" y="1562040"/>
            <a:ext cx="44640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45400" y="2325600"/>
            <a:ext cx="512640" cy="2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6381720"/>
            <a:ext cx="59594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gure 2.8 - Location of monitoring instruments in the ESF and ECRB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11160" y="122400"/>
            <a:ext cx="6946920" cy="2101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911160" y="2147760"/>
            <a:ext cx="6946920" cy="2102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911160" y="4175280"/>
            <a:ext cx="6946920" cy="2101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47920" y="6381720"/>
            <a:ext cx="59594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gure 2.9 - Relative humidity, temperature and air velocity measured at three cross-sectional points in the ECRB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49320" y="112680"/>
            <a:ext cx="6946920" cy="2102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949320" y="2139840"/>
            <a:ext cx="6946920" cy="2102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949320" y="4181400"/>
            <a:ext cx="6946920" cy="210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447920" y="6381720"/>
            <a:ext cx="59594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gure 2.10 - Matric potential in the wall rock in the ECRB (data from USGS)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68400" y="2139840"/>
            <a:ext cx="6946920" cy="2102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968400" y="122400"/>
            <a:ext cx="6946920" cy="2101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968400" y="4186080"/>
            <a:ext cx="6946920" cy="2102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447920" y="6381720"/>
            <a:ext cx="59594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gure 2.11 - Matric potential in the wall rock in the ECRB (data from USGS)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7T22:19:26Z</dcterms:created>
  <dc:creator>Preferred Customer</dc:creator>
  <dc:description/>
  <dc:language>en-US</dc:language>
  <cp:lastModifiedBy>Cheryl A. Little</cp:lastModifiedBy>
  <cp:lastPrinted>2000-07-10T02:54:42Z</cp:lastPrinted>
  <dcterms:modified xsi:type="dcterms:W3CDTF">2000-11-28T22:51:05Z</dcterms:modified>
  <cp:revision>74</cp:revision>
  <dc:subject/>
  <dc:title>No Slide Title</dc:title>
</cp:coreProperties>
</file>