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35080" y="158760"/>
            <a:ext cx="8673840" cy="6540480"/>
          </a:xfrm>
          <a:prstGeom prst="rect">
            <a:avLst/>
          </a:prstGeom>
          <a:noFill/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35080" y="6254640"/>
            <a:ext cx="8673840" cy="444600"/>
          </a:xfrm>
          <a:prstGeom prst="rect">
            <a:avLst/>
          </a:prstGeom>
          <a:solidFill>
            <a:srgbClr val="ffffcc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624852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235080" y="182520"/>
            <a:ext cx="8665920" cy="297360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496800" y="6359400"/>
            <a:ext cx="8120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Figure 2.1.  Piezometric elevations in ONC#1 from October 1998 to April 2000 and the August 1999 earthquake.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237960" y="3095640"/>
            <a:ext cx="8659800" cy="31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1880" y="1447920"/>
            <a:ext cx="8410680" cy="39812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962000" y="590400"/>
            <a:ext cx="60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eumatic pressure head variation in ONC#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303800" y="550548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rot="16200000">
            <a:off x="-549000" y="3106080"/>
            <a:ext cx="183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ssure in p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1000" y="6373800"/>
            <a:ext cx="62308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Figure 2.2. Pneumatic pressure head in ONC#1 from January 1999 to April 2000.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920" y="216000"/>
            <a:ext cx="8470800" cy="2960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24000" y="3171960"/>
            <a:ext cx="8466120" cy="2971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0560" y="1619280"/>
            <a:ext cx="76201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0720" y="6381720"/>
            <a:ext cx="835668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Figure 2.3. Pneumatic pressure head gradient, with respect to atmosphere (above) and absolute pressure (below) in ONC#1 April 1 to 18 2000.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00280" y="3166920"/>
            <a:ext cx="7499160" cy="30290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95240" y="195120"/>
            <a:ext cx="7505640" cy="3043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390680" y="1847880"/>
            <a:ext cx="657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57440" y="828720"/>
            <a:ext cx="1838160" cy="276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pward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00840" y="2343240"/>
            <a:ext cx="1838160" cy="276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wnward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1600" y="6381720"/>
            <a:ext cx="89424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Figure 2.4. Pneumatic pressure head gradient with respect to atmosphere (above) and absolute pressure (below) in ONC#1 November to December 1999.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17T22:19:26Z</dcterms:created>
  <dc:creator>Preferred Customer</dc:creator>
  <dc:description/>
  <dc:language>en-US</dc:language>
  <cp:lastModifiedBy>Cheryl A. Little</cp:lastModifiedBy>
  <cp:lastPrinted>2000-11-21T16:07:43Z</cp:lastPrinted>
  <dcterms:modified xsi:type="dcterms:W3CDTF">2000-11-28T22:49:54Z</dcterms:modified>
  <cp:revision>80</cp:revision>
  <dc:subject/>
  <dc:title>No Slide Title</dc:title>
</cp:coreProperties>
</file>