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158760"/>
            <a:ext cx="8680320" cy="6546960"/>
            <a:chOff x="228600" y="158760"/>
            <a:chExt cx="8680320" cy="6546960"/>
          </a:xfrm>
        </p:grpSpPr>
        <p:sp>
          <p:nvSpPr>
            <p:cNvPr id="1" name=""/>
            <p:cNvSpPr/>
            <p:nvPr/>
          </p:nvSpPr>
          <p:spPr>
            <a:xfrm>
              <a:off x="235080" y="158760"/>
              <a:ext cx="8673840" cy="6540480"/>
            </a:xfrm>
            <a:prstGeom prst="rect">
              <a:avLst/>
            </a:prstGeom>
            <a:noFill/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5080" y="6254640"/>
              <a:ext cx="8673840" cy="444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28600" y="6248520"/>
              <a:ext cx="259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57280" y="6324480"/>
              <a:ext cx="6235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40000" t="2120000" r="0" b="0"/>
          <a:stretch/>
        </p:blipFill>
        <p:spPr>
          <a:xfrm>
            <a:off x="4238640" y="3024360"/>
            <a:ext cx="28440" cy="7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540000" t="540000" r="0" b="1600000"/>
          <a:stretch/>
        </p:blipFill>
        <p:spPr>
          <a:xfrm>
            <a:off x="4216320" y="2986200"/>
            <a:ext cx="28800" cy="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540000" t="1060000" r="0" b="1060000"/>
          <a:stretch/>
        </p:blipFill>
        <p:spPr>
          <a:xfrm>
            <a:off x="4202280" y="2986200"/>
            <a:ext cx="28440" cy="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540000" t="2120000" r="0" b="0"/>
          <a:stretch/>
        </p:blipFill>
        <p:spPr>
          <a:xfrm>
            <a:off x="4503600" y="3529080"/>
            <a:ext cx="30240" cy="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540000" t="540000" r="0" b="1600000"/>
          <a:stretch/>
        </p:blipFill>
        <p:spPr>
          <a:xfrm>
            <a:off x="4497480" y="3490920"/>
            <a:ext cx="28440" cy="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540000" t="2120000" r="0" b="0"/>
          <a:stretch/>
        </p:blipFill>
        <p:spPr>
          <a:xfrm>
            <a:off x="4367160" y="3273480"/>
            <a:ext cx="30240" cy="6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540000" t="540000" r="0" b="1600000"/>
          <a:stretch/>
        </p:blipFill>
        <p:spPr>
          <a:xfrm>
            <a:off x="4367160" y="3243240"/>
            <a:ext cx="30240" cy="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rcRect l="540000" t="1060000" r="0" b="1060000"/>
          <a:stretch/>
        </p:blipFill>
        <p:spPr>
          <a:xfrm>
            <a:off x="4361040" y="3243240"/>
            <a:ext cx="28440" cy="7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rcRect l="540000" t="540000" r="0" b="1600000"/>
          <a:stretch/>
        </p:blipFill>
        <p:spPr>
          <a:xfrm>
            <a:off x="4346640" y="3205080"/>
            <a:ext cx="28440" cy="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rcRect l="540000" t="540000" r="0" b="1600000"/>
          <a:stretch/>
        </p:blipFill>
        <p:spPr>
          <a:xfrm>
            <a:off x="4346640" y="3205080"/>
            <a:ext cx="28440" cy="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rcRect l="540000" t="2120000" r="0" b="0"/>
          <a:stretch/>
        </p:blipFill>
        <p:spPr>
          <a:xfrm>
            <a:off x="4238640" y="3024360"/>
            <a:ext cx="28440" cy="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rcRect l="540000" t="2120000" r="0" b="0"/>
          <a:stretch/>
        </p:blipFill>
        <p:spPr>
          <a:xfrm>
            <a:off x="4230720" y="3024360"/>
            <a:ext cx="30240" cy="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540000" t="540000" r="0" b="1600000"/>
          <a:stretch/>
        </p:blipFill>
        <p:spPr>
          <a:xfrm>
            <a:off x="4216320" y="2986200"/>
            <a:ext cx="28800" cy="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rcRect l="540000" t="540000" r="0" b="1600000"/>
          <a:stretch/>
        </p:blipFill>
        <p:spPr>
          <a:xfrm>
            <a:off x="4210200" y="2986200"/>
            <a:ext cx="28440" cy="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rcRect l="540000" t="1060000" r="0" b="1060000"/>
          <a:stretch/>
        </p:blipFill>
        <p:spPr>
          <a:xfrm>
            <a:off x="4202280" y="2986200"/>
            <a:ext cx="28440" cy="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67000" y="6286680"/>
            <a:ext cx="623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gure 2.5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riation of Piezometric elevation at NC-EWDP-1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361800" y="198360"/>
            <a:ext cx="8406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92200" y="6367320"/>
            <a:ext cx="6195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gure 2.6.   Variation of Piezometric elevation at NC-EWDP-3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1440" y="181080"/>
            <a:ext cx="861048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760" y="209520"/>
            <a:ext cx="8578800" cy="4410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92200" y="6367320"/>
            <a:ext cx="6195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gure 2.7.   Variation of Piezometric elevation at NC-EWDP-9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7T22:19:26Z</dcterms:created>
  <dc:creator>Preferred Customer</dc:creator>
  <dc:description/>
  <dc:language>en-US</dc:language>
  <cp:lastModifiedBy>Cheryl A. Little</cp:lastModifiedBy>
  <cp:lastPrinted>2000-07-10T02:54:42Z</cp:lastPrinted>
  <dcterms:modified xsi:type="dcterms:W3CDTF">2000-11-28T22:50:21Z</dcterms:modified>
  <cp:revision>70</cp:revision>
  <dc:subject/>
  <dc:title>No Slide Title</dc:title>
</cp:coreProperties>
</file>