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1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F29-ACCE-4ACF-BCE9-44455752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133-A321-4957-845C-29C68C20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C6ED-DB15-4B4C-906B-D4EB4EEE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164-A640-4CEC-BFA5-A90C97E3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DF5E-B9F3-44AB-BD11-226CBBC3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B89D-6C88-4A56-97E1-1750757A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FFBA-BC59-46F2-8306-15ABB71F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B3AB-B4F7-4C34-8851-A50837C1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FE6-3793-4B01-8FFC-2EC8FFE2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722-8313-4D43-912C-BB4FDB37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BD2D-84D2-4374-B7C2-1A6B5F2A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4E8F-17A0-4971-8D26-DB7B9961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C951-5548-4274-9E19-E7F6BB360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6172200"/>
            <a:ext cx="8382240" cy="609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457200"/>
            <a:ext cx="8382240" cy="56386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19720" y="533520"/>
            <a:ext cx="167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NC-#1 STRATIGRAPHY 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NSTRUM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495680" y="914400"/>
            <a:ext cx="2412720" cy="4754520"/>
            <a:chOff x="4495680" y="914400"/>
            <a:chExt cx="2412720" cy="4754520"/>
          </a:xfrm>
        </p:grpSpPr>
        <p:sp>
          <p:nvSpPr>
            <p:cNvPr id="43" name=""/>
            <p:cNvSpPr/>
            <p:nvPr/>
          </p:nvSpPr>
          <p:spPr>
            <a:xfrm>
              <a:off x="4495680" y="2698920"/>
              <a:ext cx="14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95680" y="1509840"/>
              <a:ext cx="14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640400" y="920880"/>
              <a:ext cx="1109520" cy="47019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95680" y="2103480"/>
              <a:ext cx="14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95680" y="3292560"/>
              <a:ext cx="14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95680" y="3888000"/>
              <a:ext cx="14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95680" y="4479840"/>
              <a:ext cx="14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95680" y="5075280"/>
              <a:ext cx="14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95680" y="5668920"/>
              <a:ext cx="14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95680" y="914400"/>
              <a:ext cx="14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40400" y="920880"/>
              <a:ext cx="1109520" cy="291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40400" y="1217880"/>
              <a:ext cx="1109520" cy="293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5961600" y="1197000"/>
              <a:ext cx="878760" cy="397080"/>
              <a:chOff x="5961600" y="1197000"/>
              <a:chExt cx="878760" cy="397080"/>
            </a:xfrm>
          </p:grpSpPr>
          <p:sp>
            <p:nvSpPr>
              <p:cNvPr id="56" name=""/>
              <p:cNvSpPr/>
              <p:nvPr/>
            </p:nvSpPr>
            <p:spPr>
              <a:xfrm>
                <a:off x="6062760" y="1241640"/>
                <a:ext cx="77760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961600" y="1197000"/>
                <a:ext cx="7398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cc"/>
                    </a:solidFill>
                    <a:latin typeface="Arial"/>
                  </a:rPr>
                  <a:t>RAINIER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cc"/>
                    </a:solidFill>
                    <a:latin typeface="Arial"/>
                  </a:rPr>
                  <a:t>MES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4640400" y="1516320"/>
              <a:ext cx="1109520" cy="9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40400" y="1614600"/>
              <a:ext cx="1109520" cy="1084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8120" y="1957320"/>
              <a:ext cx="7671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TIV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WELD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876640" y="92088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ALLUVI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0400" y="2705040"/>
              <a:ext cx="1109520" cy="144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94280" y="2681280"/>
              <a:ext cx="1014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NONWELD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0400" y="2853000"/>
              <a:ext cx="1109520" cy="15811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100920" y="4314960"/>
              <a:ext cx="601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FAUL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ZO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40400" y="4438800"/>
              <a:ext cx="1109520" cy="11840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637160" y="4332240"/>
              <a:ext cx="1120680" cy="149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48360" y="4959360"/>
              <a:ext cx="706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CALIC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HIL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77080" y="3424320"/>
              <a:ext cx="846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TOPOPA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SPRING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86240" y="2374920"/>
              <a:ext cx="95400" cy="150840"/>
            </a:xfrm>
            <a:custGeom>
              <a:avLst/>
              <a:gdLst/>
              <a:ahLst/>
              <a:rect l="l" t="t" r="r" b="b"/>
              <a:pathLst>
                <a:path w="60" h="95">
                  <a:moveTo>
                    <a:pt x="17" y="0"/>
                  </a:moveTo>
                  <a:lnTo>
                    <a:pt x="0" y="18"/>
                  </a:lnTo>
                  <a:lnTo>
                    <a:pt x="0" y="75"/>
                  </a:lnTo>
                  <a:lnTo>
                    <a:pt x="17" y="94"/>
                  </a:lnTo>
                  <a:lnTo>
                    <a:pt x="41" y="94"/>
                  </a:lnTo>
                  <a:lnTo>
                    <a:pt x="59" y="75"/>
                  </a:lnTo>
                  <a:lnTo>
                    <a:pt x="59" y="18"/>
                  </a:lnTo>
                  <a:lnTo>
                    <a:pt x="41" y="0"/>
                  </a:lnTo>
                  <a:lnTo>
                    <a:pt x="17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37160" y="5175360"/>
              <a:ext cx="33156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30760" y="5025960"/>
              <a:ext cx="235080" cy="150840"/>
            </a:xfrm>
            <a:custGeom>
              <a:avLst/>
              <a:gdLst/>
              <a:ahLst/>
              <a:rect l="l" t="t" r="r" b="b"/>
              <a:pathLst>
                <a:path w="148" h="95">
                  <a:moveTo>
                    <a:pt x="73" y="94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73" y="94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75040" y="3589560"/>
              <a:ext cx="289080" cy="50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14720" y="3737160"/>
              <a:ext cx="49320" cy="257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16520" y="5124600"/>
              <a:ext cx="285840" cy="50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5455440" y="1998720"/>
              <a:ext cx="267480" cy="214200"/>
              <a:chOff x="5455440" y="1998720"/>
              <a:chExt cx="267480" cy="214200"/>
            </a:xfrm>
          </p:grpSpPr>
          <p:sp>
            <p:nvSpPr>
              <p:cNvPr id="77" name=""/>
              <p:cNvSpPr/>
              <p:nvPr/>
            </p:nvSpPr>
            <p:spPr>
              <a:xfrm>
                <a:off x="5554800" y="2024280"/>
                <a:ext cx="168120" cy="18720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455440" y="1998720"/>
                <a:ext cx="23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5455440" y="2197080"/>
              <a:ext cx="267480" cy="214200"/>
              <a:chOff x="5455440" y="2197080"/>
              <a:chExt cx="267480" cy="214200"/>
            </a:xfrm>
          </p:grpSpPr>
          <p:sp>
            <p:nvSpPr>
              <p:cNvPr id="80" name=""/>
              <p:cNvSpPr/>
              <p:nvPr/>
            </p:nvSpPr>
            <p:spPr>
              <a:xfrm>
                <a:off x="5554800" y="2222640"/>
                <a:ext cx="168120" cy="18720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455440" y="2197080"/>
                <a:ext cx="23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4955400" y="2355840"/>
              <a:ext cx="266040" cy="214200"/>
              <a:chOff x="4955400" y="2355840"/>
              <a:chExt cx="266040" cy="214200"/>
            </a:xfrm>
          </p:grpSpPr>
          <p:sp>
            <p:nvSpPr>
              <p:cNvPr id="83" name=""/>
              <p:cNvSpPr/>
              <p:nvPr/>
            </p:nvSpPr>
            <p:spPr>
              <a:xfrm>
                <a:off x="5056200" y="2381400"/>
                <a:ext cx="165240" cy="18720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55400" y="2355840"/>
                <a:ext cx="23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5455440" y="2395800"/>
              <a:ext cx="267480" cy="214200"/>
              <a:chOff x="5455440" y="2395800"/>
              <a:chExt cx="267480" cy="214200"/>
            </a:xfrm>
          </p:grpSpPr>
          <p:sp>
            <p:nvSpPr>
              <p:cNvPr id="86" name=""/>
              <p:cNvSpPr/>
              <p:nvPr/>
            </p:nvSpPr>
            <p:spPr>
              <a:xfrm>
                <a:off x="5554800" y="2421000"/>
                <a:ext cx="168120" cy="18720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455440" y="2395800"/>
                <a:ext cx="23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455440" y="2594160"/>
              <a:ext cx="267480" cy="214200"/>
              <a:chOff x="5455440" y="2594160"/>
              <a:chExt cx="267480" cy="214200"/>
            </a:xfrm>
          </p:grpSpPr>
          <p:sp>
            <p:nvSpPr>
              <p:cNvPr id="89" name=""/>
              <p:cNvSpPr/>
              <p:nvPr/>
            </p:nvSpPr>
            <p:spPr>
              <a:xfrm>
                <a:off x="5554800" y="2617920"/>
                <a:ext cx="168120" cy="18900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455440" y="2594160"/>
                <a:ext cx="23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5455440" y="2989440"/>
              <a:ext cx="267480" cy="214200"/>
              <a:chOff x="5455440" y="2989440"/>
              <a:chExt cx="267480" cy="214200"/>
            </a:xfrm>
          </p:grpSpPr>
          <p:sp>
            <p:nvSpPr>
              <p:cNvPr id="92" name=""/>
              <p:cNvSpPr/>
              <p:nvPr/>
            </p:nvSpPr>
            <p:spPr>
              <a:xfrm>
                <a:off x="5554800" y="3014640"/>
                <a:ext cx="168120" cy="18756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455440" y="2989440"/>
                <a:ext cx="23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458680" y="3187800"/>
              <a:ext cx="264240" cy="214200"/>
              <a:chOff x="5458680" y="3187800"/>
              <a:chExt cx="264240" cy="214200"/>
            </a:xfrm>
          </p:grpSpPr>
          <p:sp>
            <p:nvSpPr>
              <p:cNvPr id="95" name=""/>
              <p:cNvSpPr/>
              <p:nvPr/>
            </p:nvSpPr>
            <p:spPr>
              <a:xfrm>
                <a:off x="5554800" y="3213360"/>
                <a:ext cx="168120" cy="18720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458680" y="3187800"/>
                <a:ext cx="23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cc"/>
                    </a:solidFill>
                    <a:latin typeface="Times New Roman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458680" y="3610080"/>
              <a:ext cx="264240" cy="214200"/>
              <a:chOff x="5458680" y="3610080"/>
              <a:chExt cx="264240" cy="214200"/>
            </a:xfrm>
          </p:grpSpPr>
          <p:sp>
            <p:nvSpPr>
              <p:cNvPr id="98" name=""/>
              <p:cNvSpPr/>
              <p:nvPr/>
            </p:nvSpPr>
            <p:spPr>
              <a:xfrm>
                <a:off x="5554800" y="3635640"/>
                <a:ext cx="168120" cy="18720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458680" y="3610080"/>
                <a:ext cx="23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cc"/>
                    </a:solidFill>
                    <a:latin typeface="Times New Roman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5458680" y="3881520"/>
              <a:ext cx="264240" cy="214200"/>
              <a:chOff x="5458680" y="3881520"/>
              <a:chExt cx="264240" cy="214200"/>
            </a:xfrm>
          </p:grpSpPr>
          <p:sp>
            <p:nvSpPr>
              <p:cNvPr id="101" name=""/>
              <p:cNvSpPr/>
              <p:nvPr/>
            </p:nvSpPr>
            <p:spPr>
              <a:xfrm>
                <a:off x="5554800" y="3907080"/>
                <a:ext cx="168120" cy="18720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458680" y="3881520"/>
                <a:ext cx="23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cc"/>
                    </a:solidFill>
                    <a:latin typeface="Times New Roman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410440" y="4129200"/>
              <a:ext cx="312480" cy="214200"/>
              <a:chOff x="5410440" y="4129200"/>
              <a:chExt cx="312480" cy="214200"/>
            </a:xfrm>
          </p:grpSpPr>
          <p:sp>
            <p:nvSpPr>
              <p:cNvPr id="104" name=""/>
              <p:cNvSpPr/>
              <p:nvPr/>
            </p:nvSpPr>
            <p:spPr>
              <a:xfrm>
                <a:off x="5510160" y="4154760"/>
                <a:ext cx="212760" cy="18720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10440" y="4129200"/>
                <a:ext cx="2887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cc"/>
                    </a:solidFill>
                    <a:latin typeface="Times New Roman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5040360" y="4437000"/>
              <a:ext cx="312840" cy="214200"/>
              <a:chOff x="5040360" y="4437000"/>
              <a:chExt cx="312840" cy="214200"/>
            </a:xfrm>
          </p:grpSpPr>
          <p:sp>
            <p:nvSpPr>
              <p:cNvPr id="107" name=""/>
              <p:cNvSpPr/>
              <p:nvPr/>
            </p:nvSpPr>
            <p:spPr>
              <a:xfrm>
                <a:off x="5137200" y="4462560"/>
                <a:ext cx="216000" cy="18720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040360" y="4437000"/>
                <a:ext cx="2887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cc"/>
                    </a:solidFill>
                    <a:latin typeface="Times New Roman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410440" y="4327560"/>
              <a:ext cx="312480" cy="214200"/>
              <a:chOff x="5410440" y="4327560"/>
              <a:chExt cx="312480" cy="214200"/>
            </a:xfrm>
          </p:grpSpPr>
          <p:sp>
            <p:nvSpPr>
              <p:cNvPr id="110" name=""/>
              <p:cNvSpPr/>
              <p:nvPr/>
            </p:nvSpPr>
            <p:spPr>
              <a:xfrm>
                <a:off x="5510160" y="4351320"/>
                <a:ext cx="212760" cy="18900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410440" y="4327560"/>
                <a:ext cx="2887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cc"/>
                    </a:solidFill>
                    <a:latin typeface="Times New Roman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5410440" y="4575240"/>
              <a:ext cx="312480" cy="214200"/>
              <a:chOff x="5410440" y="4575240"/>
              <a:chExt cx="312480" cy="214200"/>
            </a:xfrm>
          </p:grpSpPr>
          <p:sp>
            <p:nvSpPr>
              <p:cNvPr id="113" name=""/>
              <p:cNvSpPr/>
              <p:nvPr/>
            </p:nvSpPr>
            <p:spPr>
              <a:xfrm>
                <a:off x="5510160" y="4600800"/>
                <a:ext cx="212760" cy="18720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10440" y="4575240"/>
                <a:ext cx="2887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cc"/>
                    </a:solidFill>
                    <a:latin typeface="Times New Roman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410440" y="4873680"/>
              <a:ext cx="312480" cy="214200"/>
              <a:chOff x="5410440" y="4873680"/>
              <a:chExt cx="312480" cy="214200"/>
            </a:xfrm>
          </p:grpSpPr>
          <p:sp>
            <p:nvSpPr>
              <p:cNvPr id="116" name=""/>
              <p:cNvSpPr/>
              <p:nvPr/>
            </p:nvSpPr>
            <p:spPr>
              <a:xfrm>
                <a:off x="5510160" y="4896000"/>
                <a:ext cx="212760" cy="18900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410440" y="4873680"/>
                <a:ext cx="2887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cc"/>
                    </a:solidFill>
                    <a:latin typeface="Times New Roman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410440" y="5261040"/>
              <a:ext cx="312480" cy="214200"/>
              <a:chOff x="5410440" y="5261040"/>
              <a:chExt cx="312480" cy="214200"/>
            </a:xfrm>
          </p:grpSpPr>
          <p:sp>
            <p:nvSpPr>
              <p:cNvPr id="119" name=""/>
              <p:cNvSpPr/>
              <p:nvPr/>
            </p:nvSpPr>
            <p:spPr>
              <a:xfrm>
                <a:off x="5510160" y="5283360"/>
                <a:ext cx="212760" cy="18720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410440" y="5261040"/>
                <a:ext cx="2887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cc"/>
                    </a:solidFill>
                    <a:latin typeface="Times New Roman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4900320" y="1663920"/>
              <a:ext cx="671040" cy="214200"/>
              <a:chOff x="4900320" y="1663920"/>
              <a:chExt cx="671040" cy="214200"/>
            </a:xfrm>
          </p:grpSpPr>
          <p:sp>
            <p:nvSpPr>
              <p:cNvPr id="122" name=""/>
              <p:cNvSpPr/>
              <p:nvPr/>
            </p:nvSpPr>
            <p:spPr>
              <a:xfrm>
                <a:off x="4998960" y="1687680"/>
                <a:ext cx="565200" cy="18900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900320" y="1663920"/>
                <a:ext cx="6710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cc"/>
                    </a:solidFill>
                    <a:latin typeface="Times New Roman"/>
                  </a:rPr>
                  <a:t>PACK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5194440" y="1906560"/>
              <a:ext cx="24120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4633200" y="3248280"/>
              <a:ext cx="806760" cy="214200"/>
              <a:chOff x="4633200" y="3248280"/>
              <a:chExt cx="806760" cy="214200"/>
            </a:xfrm>
          </p:grpSpPr>
          <p:sp>
            <p:nvSpPr>
              <p:cNvPr id="126" name=""/>
              <p:cNvSpPr/>
              <p:nvPr/>
            </p:nvSpPr>
            <p:spPr>
              <a:xfrm>
                <a:off x="4732200" y="3273480"/>
                <a:ext cx="685800" cy="18720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633200" y="3248280"/>
                <a:ext cx="8067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cc"/>
                    </a:solidFill>
                    <a:latin typeface="Times New Roman"/>
                  </a:rPr>
                  <a:t>FRACTUR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 flipH="1">
              <a:off x="4868640" y="3436920"/>
              <a:ext cx="3776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25920" y="2079720"/>
              <a:ext cx="95400" cy="149400"/>
            </a:xfrm>
            <a:custGeom>
              <a:avLst/>
              <a:gdLst/>
              <a:ahLst/>
              <a:rect l="l" t="t" r="r" b="b"/>
              <a:pathLst>
                <a:path w="60" h="94">
                  <a:moveTo>
                    <a:pt x="17" y="0"/>
                  </a:moveTo>
                  <a:lnTo>
                    <a:pt x="0" y="17"/>
                  </a:lnTo>
                  <a:lnTo>
                    <a:pt x="0" y="75"/>
                  </a:lnTo>
                  <a:lnTo>
                    <a:pt x="17" y="93"/>
                  </a:lnTo>
                  <a:lnTo>
                    <a:pt x="41" y="93"/>
                  </a:lnTo>
                  <a:lnTo>
                    <a:pt x="59" y="75"/>
                  </a:lnTo>
                  <a:lnTo>
                    <a:pt x="59" y="17"/>
                  </a:lnTo>
                  <a:lnTo>
                    <a:pt x="41" y="0"/>
                  </a:lnTo>
                  <a:lnTo>
                    <a:pt x="17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25920" y="2278080"/>
              <a:ext cx="95400" cy="149400"/>
            </a:xfrm>
            <a:custGeom>
              <a:avLst/>
              <a:gdLst/>
              <a:ahLst/>
              <a:rect l="l" t="t" r="r" b="b"/>
              <a:pathLst>
                <a:path w="60" h="94">
                  <a:moveTo>
                    <a:pt x="17" y="0"/>
                  </a:moveTo>
                  <a:lnTo>
                    <a:pt x="0" y="17"/>
                  </a:lnTo>
                  <a:lnTo>
                    <a:pt x="0" y="75"/>
                  </a:lnTo>
                  <a:lnTo>
                    <a:pt x="17" y="93"/>
                  </a:lnTo>
                  <a:lnTo>
                    <a:pt x="41" y="93"/>
                  </a:lnTo>
                  <a:lnTo>
                    <a:pt x="59" y="75"/>
                  </a:lnTo>
                  <a:lnTo>
                    <a:pt x="59" y="17"/>
                  </a:lnTo>
                  <a:lnTo>
                    <a:pt x="41" y="0"/>
                  </a:lnTo>
                  <a:lnTo>
                    <a:pt x="17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25920" y="2475000"/>
              <a:ext cx="95400" cy="150840"/>
            </a:xfrm>
            <a:custGeom>
              <a:avLst/>
              <a:gdLst/>
              <a:ahLst/>
              <a:rect l="l" t="t" r="r" b="b"/>
              <a:pathLst>
                <a:path w="60" h="95">
                  <a:moveTo>
                    <a:pt x="17" y="0"/>
                  </a:moveTo>
                  <a:lnTo>
                    <a:pt x="0" y="18"/>
                  </a:lnTo>
                  <a:lnTo>
                    <a:pt x="0" y="75"/>
                  </a:lnTo>
                  <a:lnTo>
                    <a:pt x="17" y="94"/>
                  </a:lnTo>
                  <a:lnTo>
                    <a:pt x="41" y="94"/>
                  </a:lnTo>
                  <a:lnTo>
                    <a:pt x="59" y="75"/>
                  </a:lnTo>
                  <a:lnTo>
                    <a:pt x="59" y="18"/>
                  </a:lnTo>
                  <a:lnTo>
                    <a:pt x="41" y="0"/>
                  </a:lnTo>
                  <a:lnTo>
                    <a:pt x="17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25920" y="3070440"/>
              <a:ext cx="95400" cy="149040"/>
            </a:xfrm>
            <a:custGeom>
              <a:avLst/>
              <a:gdLst/>
              <a:ahLst/>
              <a:rect l="l" t="t" r="r" b="b"/>
              <a:pathLst>
                <a:path w="60" h="94">
                  <a:moveTo>
                    <a:pt x="17" y="0"/>
                  </a:moveTo>
                  <a:lnTo>
                    <a:pt x="0" y="17"/>
                  </a:lnTo>
                  <a:lnTo>
                    <a:pt x="0" y="75"/>
                  </a:lnTo>
                  <a:lnTo>
                    <a:pt x="17" y="93"/>
                  </a:lnTo>
                  <a:lnTo>
                    <a:pt x="41" y="93"/>
                  </a:lnTo>
                  <a:lnTo>
                    <a:pt x="59" y="75"/>
                  </a:lnTo>
                  <a:lnTo>
                    <a:pt x="59" y="17"/>
                  </a:lnTo>
                  <a:lnTo>
                    <a:pt x="41" y="0"/>
                  </a:lnTo>
                  <a:lnTo>
                    <a:pt x="17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25920" y="3268800"/>
              <a:ext cx="95400" cy="149040"/>
            </a:xfrm>
            <a:custGeom>
              <a:avLst/>
              <a:gdLst/>
              <a:ahLst/>
              <a:rect l="l" t="t" r="r" b="b"/>
              <a:pathLst>
                <a:path w="60" h="94">
                  <a:moveTo>
                    <a:pt x="17" y="0"/>
                  </a:moveTo>
                  <a:lnTo>
                    <a:pt x="0" y="17"/>
                  </a:lnTo>
                  <a:lnTo>
                    <a:pt x="0" y="75"/>
                  </a:lnTo>
                  <a:lnTo>
                    <a:pt x="17" y="93"/>
                  </a:lnTo>
                  <a:lnTo>
                    <a:pt x="41" y="93"/>
                  </a:lnTo>
                  <a:lnTo>
                    <a:pt x="59" y="75"/>
                  </a:lnTo>
                  <a:lnTo>
                    <a:pt x="59" y="17"/>
                  </a:lnTo>
                  <a:lnTo>
                    <a:pt x="41" y="0"/>
                  </a:lnTo>
                  <a:lnTo>
                    <a:pt x="17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25920" y="3630600"/>
              <a:ext cx="95400" cy="150840"/>
            </a:xfrm>
            <a:custGeom>
              <a:avLst/>
              <a:gdLst/>
              <a:ahLst/>
              <a:rect l="l" t="t" r="r" b="b"/>
              <a:pathLst>
                <a:path w="60" h="95">
                  <a:moveTo>
                    <a:pt x="17" y="0"/>
                  </a:moveTo>
                  <a:lnTo>
                    <a:pt x="0" y="18"/>
                  </a:lnTo>
                  <a:lnTo>
                    <a:pt x="0" y="76"/>
                  </a:lnTo>
                  <a:lnTo>
                    <a:pt x="17" y="94"/>
                  </a:lnTo>
                  <a:lnTo>
                    <a:pt x="41" y="94"/>
                  </a:lnTo>
                  <a:lnTo>
                    <a:pt x="59" y="76"/>
                  </a:lnTo>
                  <a:lnTo>
                    <a:pt x="59" y="18"/>
                  </a:lnTo>
                  <a:lnTo>
                    <a:pt x="41" y="0"/>
                  </a:lnTo>
                  <a:lnTo>
                    <a:pt x="17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25920" y="3929040"/>
              <a:ext cx="95400" cy="149400"/>
            </a:xfrm>
            <a:custGeom>
              <a:avLst/>
              <a:gdLst/>
              <a:ahLst/>
              <a:rect l="l" t="t" r="r" b="b"/>
              <a:pathLst>
                <a:path w="60" h="94">
                  <a:moveTo>
                    <a:pt x="17" y="0"/>
                  </a:moveTo>
                  <a:lnTo>
                    <a:pt x="0" y="17"/>
                  </a:lnTo>
                  <a:lnTo>
                    <a:pt x="0" y="75"/>
                  </a:lnTo>
                  <a:lnTo>
                    <a:pt x="17" y="93"/>
                  </a:lnTo>
                  <a:lnTo>
                    <a:pt x="41" y="93"/>
                  </a:lnTo>
                  <a:lnTo>
                    <a:pt x="59" y="75"/>
                  </a:lnTo>
                  <a:lnTo>
                    <a:pt x="59" y="17"/>
                  </a:lnTo>
                  <a:lnTo>
                    <a:pt x="41" y="0"/>
                  </a:lnTo>
                  <a:lnTo>
                    <a:pt x="17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25920" y="4257720"/>
              <a:ext cx="95400" cy="150840"/>
            </a:xfrm>
            <a:custGeom>
              <a:avLst/>
              <a:gdLst/>
              <a:ahLst/>
              <a:rect l="l" t="t" r="r" b="b"/>
              <a:pathLst>
                <a:path w="60" h="95">
                  <a:moveTo>
                    <a:pt x="17" y="0"/>
                  </a:moveTo>
                  <a:lnTo>
                    <a:pt x="0" y="18"/>
                  </a:lnTo>
                  <a:lnTo>
                    <a:pt x="0" y="75"/>
                  </a:lnTo>
                  <a:lnTo>
                    <a:pt x="17" y="94"/>
                  </a:lnTo>
                  <a:lnTo>
                    <a:pt x="41" y="94"/>
                  </a:lnTo>
                  <a:lnTo>
                    <a:pt x="59" y="75"/>
                  </a:lnTo>
                  <a:lnTo>
                    <a:pt x="59" y="18"/>
                  </a:lnTo>
                  <a:lnTo>
                    <a:pt x="41" y="0"/>
                  </a:lnTo>
                  <a:lnTo>
                    <a:pt x="17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25920" y="4407120"/>
              <a:ext cx="95400" cy="150840"/>
            </a:xfrm>
            <a:custGeom>
              <a:avLst/>
              <a:gdLst/>
              <a:ahLst/>
              <a:rect l="l" t="t" r="r" b="b"/>
              <a:pathLst>
                <a:path w="60" h="95">
                  <a:moveTo>
                    <a:pt x="17" y="0"/>
                  </a:moveTo>
                  <a:lnTo>
                    <a:pt x="0" y="18"/>
                  </a:lnTo>
                  <a:lnTo>
                    <a:pt x="0" y="75"/>
                  </a:lnTo>
                  <a:lnTo>
                    <a:pt x="17" y="94"/>
                  </a:lnTo>
                  <a:lnTo>
                    <a:pt x="41" y="94"/>
                  </a:lnTo>
                  <a:lnTo>
                    <a:pt x="59" y="75"/>
                  </a:lnTo>
                  <a:lnTo>
                    <a:pt x="59" y="18"/>
                  </a:lnTo>
                  <a:lnTo>
                    <a:pt x="41" y="0"/>
                  </a:lnTo>
                  <a:lnTo>
                    <a:pt x="17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25920" y="4703760"/>
              <a:ext cx="95400" cy="150840"/>
            </a:xfrm>
            <a:custGeom>
              <a:avLst/>
              <a:gdLst/>
              <a:ahLst/>
              <a:rect l="l" t="t" r="r" b="b"/>
              <a:pathLst>
                <a:path w="60" h="95">
                  <a:moveTo>
                    <a:pt x="17" y="0"/>
                  </a:moveTo>
                  <a:lnTo>
                    <a:pt x="0" y="18"/>
                  </a:lnTo>
                  <a:lnTo>
                    <a:pt x="0" y="76"/>
                  </a:lnTo>
                  <a:lnTo>
                    <a:pt x="17" y="94"/>
                  </a:lnTo>
                  <a:lnTo>
                    <a:pt x="41" y="94"/>
                  </a:lnTo>
                  <a:lnTo>
                    <a:pt x="59" y="76"/>
                  </a:lnTo>
                  <a:lnTo>
                    <a:pt x="59" y="18"/>
                  </a:lnTo>
                  <a:lnTo>
                    <a:pt x="41" y="0"/>
                  </a:lnTo>
                  <a:lnTo>
                    <a:pt x="17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25920" y="5002200"/>
              <a:ext cx="95400" cy="149400"/>
            </a:xfrm>
            <a:custGeom>
              <a:avLst/>
              <a:gdLst/>
              <a:ahLst/>
              <a:rect l="l" t="t" r="r" b="b"/>
              <a:pathLst>
                <a:path w="60" h="94">
                  <a:moveTo>
                    <a:pt x="17" y="0"/>
                  </a:moveTo>
                  <a:lnTo>
                    <a:pt x="0" y="17"/>
                  </a:lnTo>
                  <a:lnTo>
                    <a:pt x="0" y="75"/>
                  </a:lnTo>
                  <a:lnTo>
                    <a:pt x="17" y="93"/>
                  </a:lnTo>
                  <a:lnTo>
                    <a:pt x="41" y="93"/>
                  </a:lnTo>
                  <a:lnTo>
                    <a:pt x="59" y="75"/>
                  </a:lnTo>
                  <a:lnTo>
                    <a:pt x="59" y="17"/>
                  </a:lnTo>
                  <a:lnTo>
                    <a:pt x="41" y="0"/>
                  </a:lnTo>
                  <a:lnTo>
                    <a:pt x="17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25920" y="5288040"/>
              <a:ext cx="95400" cy="15228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17" y="0"/>
                  </a:moveTo>
                  <a:lnTo>
                    <a:pt x="0" y="19"/>
                  </a:lnTo>
                  <a:lnTo>
                    <a:pt x="0" y="77"/>
                  </a:lnTo>
                  <a:lnTo>
                    <a:pt x="17" y="95"/>
                  </a:lnTo>
                  <a:lnTo>
                    <a:pt x="41" y="95"/>
                  </a:lnTo>
                  <a:lnTo>
                    <a:pt x="59" y="77"/>
                  </a:lnTo>
                  <a:lnTo>
                    <a:pt x="59" y="19"/>
                  </a:lnTo>
                  <a:lnTo>
                    <a:pt x="41" y="0"/>
                  </a:lnTo>
                  <a:lnTo>
                    <a:pt x="17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25920" y="2673360"/>
              <a:ext cx="95400" cy="150840"/>
            </a:xfrm>
            <a:custGeom>
              <a:avLst/>
              <a:gdLst/>
              <a:ahLst/>
              <a:rect l="l" t="t" r="r" b="b"/>
              <a:pathLst>
                <a:path w="60" h="95">
                  <a:moveTo>
                    <a:pt x="17" y="0"/>
                  </a:moveTo>
                  <a:lnTo>
                    <a:pt x="0" y="18"/>
                  </a:lnTo>
                  <a:lnTo>
                    <a:pt x="0" y="75"/>
                  </a:lnTo>
                  <a:lnTo>
                    <a:pt x="17" y="94"/>
                  </a:lnTo>
                  <a:lnTo>
                    <a:pt x="41" y="94"/>
                  </a:lnTo>
                  <a:lnTo>
                    <a:pt x="59" y="75"/>
                  </a:lnTo>
                  <a:lnTo>
                    <a:pt x="59" y="18"/>
                  </a:lnTo>
                  <a:lnTo>
                    <a:pt x="41" y="0"/>
                  </a:lnTo>
                  <a:lnTo>
                    <a:pt x="17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86240" y="4307040"/>
              <a:ext cx="95400" cy="15228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17" y="0"/>
                  </a:moveTo>
                  <a:lnTo>
                    <a:pt x="0" y="19"/>
                  </a:lnTo>
                  <a:lnTo>
                    <a:pt x="0" y="76"/>
                  </a:lnTo>
                  <a:lnTo>
                    <a:pt x="17" y="95"/>
                  </a:lnTo>
                  <a:lnTo>
                    <a:pt x="41" y="95"/>
                  </a:lnTo>
                  <a:lnTo>
                    <a:pt x="59" y="76"/>
                  </a:lnTo>
                  <a:lnTo>
                    <a:pt x="59" y="19"/>
                  </a:lnTo>
                  <a:lnTo>
                    <a:pt x="41" y="0"/>
                  </a:lnTo>
                  <a:lnTo>
                    <a:pt x="17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37240" y="2360880"/>
              <a:ext cx="141120" cy="198360"/>
            </a:xfrm>
            <a:custGeom>
              <a:avLst/>
              <a:gdLst/>
              <a:ahLst/>
              <a:rect l="l" t="t" r="r" b="b"/>
              <a:pathLst>
                <a:path w="89" h="125">
                  <a:moveTo>
                    <a:pt x="44" y="0"/>
                  </a:moveTo>
                  <a:lnTo>
                    <a:pt x="0" y="62"/>
                  </a:lnTo>
                  <a:lnTo>
                    <a:pt x="44" y="124"/>
                  </a:lnTo>
                  <a:lnTo>
                    <a:pt x="88" y="62"/>
                  </a:lnTo>
                  <a:lnTo>
                    <a:pt x="4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20600" y="2320920"/>
              <a:ext cx="2552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30760" y="3095640"/>
              <a:ext cx="139680" cy="198360"/>
            </a:xfrm>
            <a:custGeom>
              <a:avLst/>
              <a:gdLst/>
              <a:ahLst/>
              <a:rect l="l" t="t" r="r" b="b"/>
              <a:pathLst>
                <a:path w="88" h="125">
                  <a:moveTo>
                    <a:pt x="44" y="0"/>
                  </a:moveTo>
                  <a:lnTo>
                    <a:pt x="0" y="61"/>
                  </a:lnTo>
                  <a:lnTo>
                    <a:pt x="44" y="124"/>
                  </a:lnTo>
                  <a:lnTo>
                    <a:pt x="87" y="61"/>
                  </a:lnTo>
                  <a:lnTo>
                    <a:pt x="4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20600" y="3065400"/>
              <a:ext cx="2552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30760" y="3888000"/>
              <a:ext cx="139680" cy="198360"/>
            </a:xfrm>
            <a:custGeom>
              <a:avLst/>
              <a:gdLst/>
              <a:ahLst/>
              <a:rect l="l" t="t" r="r" b="b"/>
              <a:pathLst>
                <a:path w="88" h="125">
                  <a:moveTo>
                    <a:pt x="44" y="0"/>
                  </a:moveTo>
                  <a:lnTo>
                    <a:pt x="0" y="62"/>
                  </a:lnTo>
                  <a:lnTo>
                    <a:pt x="44" y="124"/>
                  </a:lnTo>
                  <a:lnTo>
                    <a:pt x="87" y="62"/>
                  </a:lnTo>
                  <a:lnTo>
                    <a:pt x="4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22400" y="3857760"/>
              <a:ext cx="2552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30760" y="4184640"/>
              <a:ext cx="139680" cy="198720"/>
            </a:xfrm>
            <a:custGeom>
              <a:avLst/>
              <a:gdLst/>
              <a:ahLst/>
              <a:rect l="l" t="t" r="r" b="b"/>
              <a:pathLst>
                <a:path w="88" h="125">
                  <a:moveTo>
                    <a:pt x="44" y="0"/>
                  </a:moveTo>
                  <a:lnTo>
                    <a:pt x="0" y="62"/>
                  </a:lnTo>
                  <a:lnTo>
                    <a:pt x="44" y="124"/>
                  </a:lnTo>
                  <a:lnTo>
                    <a:pt x="87" y="62"/>
                  </a:lnTo>
                  <a:lnTo>
                    <a:pt x="4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11240" y="4145040"/>
              <a:ext cx="2552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84920" y="4392720"/>
              <a:ext cx="141120" cy="200160"/>
            </a:xfrm>
            <a:custGeom>
              <a:avLst/>
              <a:gdLst/>
              <a:ahLst/>
              <a:rect l="l" t="t" r="r" b="b"/>
              <a:pathLst>
                <a:path w="89" h="126">
                  <a:moveTo>
                    <a:pt x="44" y="0"/>
                  </a:moveTo>
                  <a:lnTo>
                    <a:pt x="0" y="62"/>
                  </a:lnTo>
                  <a:lnTo>
                    <a:pt x="44" y="125"/>
                  </a:lnTo>
                  <a:lnTo>
                    <a:pt x="88" y="62"/>
                  </a:lnTo>
                  <a:lnTo>
                    <a:pt x="4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71520" y="4353120"/>
              <a:ext cx="2552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30760" y="4479840"/>
              <a:ext cx="139680" cy="200160"/>
            </a:xfrm>
            <a:custGeom>
              <a:avLst/>
              <a:gdLst/>
              <a:ahLst/>
              <a:rect l="l" t="t" r="r" b="b"/>
              <a:pathLst>
                <a:path w="88" h="126">
                  <a:moveTo>
                    <a:pt x="44" y="0"/>
                  </a:moveTo>
                  <a:lnTo>
                    <a:pt x="0" y="62"/>
                  </a:lnTo>
                  <a:lnTo>
                    <a:pt x="44" y="125"/>
                  </a:lnTo>
                  <a:lnTo>
                    <a:pt x="87" y="62"/>
                  </a:lnTo>
                  <a:lnTo>
                    <a:pt x="4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22400" y="4453200"/>
              <a:ext cx="2552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37240" y="4738680"/>
              <a:ext cx="141120" cy="198360"/>
            </a:xfrm>
            <a:custGeom>
              <a:avLst/>
              <a:gdLst/>
              <a:ahLst/>
              <a:rect l="l" t="t" r="r" b="b"/>
              <a:pathLst>
                <a:path w="89" h="125">
                  <a:moveTo>
                    <a:pt x="44" y="0"/>
                  </a:moveTo>
                  <a:lnTo>
                    <a:pt x="0" y="61"/>
                  </a:lnTo>
                  <a:lnTo>
                    <a:pt x="44" y="124"/>
                  </a:lnTo>
                  <a:lnTo>
                    <a:pt x="88" y="61"/>
                  </a:lnTo>
                  <a:lnTo>
                    <a:pt x="4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22400" y="4699080"/>
              <a:ext cx="2552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37240" y="5157720"/>
              <a:ext cx="141120" cy="200160"/>
            </a:xfrm>
            <a:custGeom>
              <a:avLst/>
              <a:gdLst/>
              <a:ahLst/>
              <a:rect l="l" t="t" r="r" b="b"/>
              <a:pathLst>
                <a:path w="89" h="126">
                  <a:moveTo>
                    <a:pt x="44" y="0"/>
                  </a:moveTo>
                  <a:lnTo>
                    <a:pt x="0" y="62"/>
                  </a:lnTo>
                  <a:lnTo>
                    <a:pt x="44" y="125"/>
                  </a:lnTo>
                  <a:lnTo>
                    <a:pt x="88" y="62"/>
                  </a:lnTo>
                  <a:lnTo>
                    <a:pt x="4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22400" y="5119920"/>
              <a:ext cx="2552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30840" y="5273640"/>
              <a:ext cx="139680" cy="198720"/>
            </a:xfrm>
            <a:custGeom>
              <a:avLst/>
              <a:gdLst/>
              <a:ahLst/>
              <a:rect l="l" t="t" r="r" b="b"/>
              <a:pathLst>
                <a:path w="88" h="125">
                  <a:moveTo>
                    <a:pt x="44" y="0"/>
                  </a:moveTo>
                  <a:lnTo>
                    <a:pt x="0" y="62"/>
                  </a:lnTo>
                  <a:lnTo>
                    <a:pt x="44" y="124"/>
                  </a:lnTo>
                  <a:lnTo>
                    <a:pt x="87" y="62"/>
                  </a:lnTo>
                  <a:lnTo>
                    <a:pt x="4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16000" y="5235840"/>
              <a:ext cx="2552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imes New Roman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4527360" y="2075040"/>
              <a:ext cx="505080" cy="259920"/>
              <a:chOff x="4527360" y="2075040"/>
              <a:chExt cx="505080" cy="259920"/>
            </a:xfrm>
          </p:grpSpPr>
          <p:sp>
            <p:nvSpPr>
              <p:cNvPr id="162" name=""/>
              <p:cNvSpPr/>
              <p:nvPr/>
            </p:nvSpPr>
            <p:spPr>
              <a:xfrm>
                <a:off x="4626000" y="2103480"/>
                <a:ext cx="406440" cy="22716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527360" y="2075040"/>
                <a:ext cx="5050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cc"/>
                    </a:solidFill>
                    <a:latin typeface="Times New Roman"/>
                  </a:rPr>
                  <a:t>Por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2362320" y="533520"/>
            <a:ext cx="1143000" cy="5333760"/>
            <a:chOff x="2362320" y="533520"/>
            <a:chExt cx="1143000" cy="5333760"/>
          </a:xfrm>
        </p:grpSpPr>
        <p:sp>
          <p:nvSpPr>
            <p:cNvPr id="165" name=""/>
            <p:cNvSpPr/>
            <p:nvPr/>
          </p:nvSpPr>
          <p:spPr>
            <a:xfrm>
              <a:off x="2373120" y="536040"/>
              <a:ext cx="1123920" cy="5328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3840" y="62388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tmosphe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62320" y="533520"/>
              <a:ext cx="2880" cy="533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62320" y="533520"/>
              <a:ext cx="21960" cy="533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83000" y="538920"/>
              <a:ext cx="2880" cy="532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83000" y="538920"/>
              <a:ext cx="21960" cy="532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84280" y="53352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84280" y="53352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84280" y="76104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84280" y="84744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84280" y="847440"/>
              <a:ext cx="1120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84280" y="932400"/>
              <a:ext cx="112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84280" y="932400"/>
              <a:ext cx="11206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84280" y="101880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84280" y="101880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84280" y="1120320"/>
              <a:ext cx="112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84280" y="120564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4280" y="1205640"/>
              <a:ext cx="11206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84280" y="130716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84280" y="130716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84280" y="139356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84280" y="147996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84280" y="1564920"/>
              <a:ext cx="112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84280" y="165132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84280" y="165132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84280" y="1736280"/>
              <a:ext cx="112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84280" y="173628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84280" y="182268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84280" y="190944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84280" y="1994400"/>
              <a:ext cx="112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84280" y="199440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84280" y="2080800"/>
              <a:ext cx="112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84280" y="208080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84280" y="216720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84280" y="216720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84280" y="225216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84280" y="2338560"/>
              <a:ext cx="112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84280" y="242496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84280" y="242496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84280" y="2509920"/>
              <a:ext cx="112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84280" y="250992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84280" y="259668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84280" y="268164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84280" y="2768040"/>
              <a:ext cx="112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84280" y="2854440"/>
              <a:ext cx="112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84280" y="285444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84280" y="293976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84280" y="2939760"/>
              <a:ext cx="1120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84280" y="302580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84280" y="3112200"/>
              <a:ext cx="112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84280" y="319752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84280" y="3197520"/>
              <a:ext cx="1120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84280" y="3283920"/>
              <a:ext cx="112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84280" y="328392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84280" y="337032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84280" y="3455640"/>
              <a:ext cx="1120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84280" y="354204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84280" y="362700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84280" y="362700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84280" y="371340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84280" y="3713400"/>
              <a:ext cx="1120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84280" y="379980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84280" y="388476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84280" y="397116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84280" y="405792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84280" y="4057920"/>
              <a:ext cx="1120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84280" y="414288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84280" y="414288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84280" y="422928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84280" y="431568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84280" y="440064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84280" y="440064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84280" y="448704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84280" y="4487040"/>
              <a:ext cx="1120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84280" y="4572000"/>
              <a:ext cx="112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84280" y="457200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84280" y="465840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84280" y="474516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84280" y="4830120"/>
              <a:ext cx="112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84280" y="483012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84280" y="491652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84280" y="491652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84280" y="500292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84280" y="508788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84280" y="5174280"/>
              <a:ext cx="112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84280" y="526068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84280" y="526068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84280" y="5345640"/>
              <a:ext cx="112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84280" y="534564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84280" y="543240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84280" y="5517360"/>
              <a:ext cx="1120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84280" y="5603760"/>
              <a:ext cx="112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84280" y="560376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84280" y="5690160"/>
              <a:ext cx="112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84280" y="569016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84280" y="5775480"/>
              <a:ext cx="1120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84280" y="5775480"/>
              <a:ext cx="1120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2362320" y="5862600"/>
              <a:ext cx="1143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84280" y="5861520"/>
              <a:ext cx="11206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 flipH="1" flipV="1">
            <a:off x="3123720" y="53316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05320" y="571500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632448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2 - A-T2VOC NODE SETUP FOR ONC#1 CALIBRATION (800 air nodes representing Westbay tub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3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905600" cy="5276880"/>
          </a:xfrm>
          <a:prstGeom prst="rect">
            <a:avLst/>
          </a:prstGeom>
          <a:ln w="0">
            <a:noFill/>
          </a:ln>
        </p:spPr>
      </p:pic>
      <p:sp>
        <p:nvSpPr>
          <p:cNvPr id="2394" name=""/>
          <p:cNvSpPr/>
          <p:nvPr/>
        </p:nvSpPr>
        <p:spPr>
          <a:xfrm>
            <a:off x="685800" y="632448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21 -  Difference between down-hole and the atmospheric probe pressures plotted with dep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5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877160" cy="5333760"/>
          </a:xfrm>
          <a:prstGeom prst="rect">
            <a:avLst/>
          </a:prstGeom>
          <a:ln w="0">
            <a:noFill/>
          </a:ln>
        </p:spPr>
      </p:pic>
      <p:sp>
        <p:nvSpPr>
          <p:cNvPr id="2396" name=""/>
          <p:cNvSpPr/>
          <p:nvPr/>
        </p:nvSpPr>
        <p:spPr>
          <a:xfrm>
            <a:off x="685800" y="632448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22 - Regression plot of the atmospheric probe and PRB-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7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77160" cy="5333760"/>
          </a:xfrm>
          <a:prstGeom prst="rect">
            <a:avLst/>
          </a:prstGeom>
          <a:ln w="0">
            <a:noFill/>
          </a:ln>
        </p:spPr>
      </p:pic>
      <p:sp>
        <p:nvSpPr>
          <p:cNvPr id="2398" name=""/>
          <p:cNvSpPr/>
          <p:nvPr/>
        </p:nvSpPr>
        <p:spPr>
          <a:xfrm>
            <a:off x="685800" y="632448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23 - Adjusted PRB-1 pressure plotted along with the atmospheric pro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893000" y="3200400"/>
            <a:ext cx="6094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B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7653240" y="3040200"/>
            <a:ext cx="704880" cy="3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8416800" y="290664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960480" y="596880"/>
            <a:ext cx="7051680" cy="5214960"/>
            <a:chOff x="960480" y="596880"/>
            <a:chExt cx="7051680" cy="5214960"/>
          </a:xfrm>
        </p:grpSpPr>
        <p:sp>
          <p:nvSpPr>
            <p:cNvPr id="268" name=""/>
            <p:cNvSpPr/>
            <p:nvPr/>
          </p:nvSpPr>
          <p:spPr>
            <a:xfrm>
              <a:off x="960480" y="596880"/>
              <a:ext cx="7051680" cy="5214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19440" y="1380960"/>
              <a:ext cx="5241600" cy="36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19440" y="4454640"/>
              <a:ext cx="5241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19440" y="3836880"/>
              <a:ext cx="5241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19440" y="3227400"/>
              <a:ext cx="5241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19440" y="2610000"/>
              <a:ext cx="5241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19440" y="2000160"/>
              <a:ext cx="5241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19440" y="1380960"/>
              <a:ext cx="5241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19440" y="1380960"/>
              <a:ext cx="5241600" cy="36831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19440" y="1380960"/>
              <a:ext cx="1440" cy="36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3360" y="50641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73360" y="44546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73360" y="383688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73360" y="32274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73360" y="26100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73360" y="20001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73360" y="13809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19440" y="5064120"/>
              <a:ext cx="5241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819440" y="506412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695680" y="506412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564000" y="506412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4440240" y="506412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5316480" y="506412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184800" y="506412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7061040" y="506412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262240" y="4103280"/>
              <a:ext cx="9360" cy="19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2271600" y="4086360"/>
              <a:ext cx="17640" cy="172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289240" y="4076280"/>
              <a:ext cx="936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98600" y="4076640"/>
              <a:ext cx="4608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44680" y="4086360"/>
              <a:ext cx="19080" cy="172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63760" y="4103640"/>
              <a:ext cx="1764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81400" y="4113360"/>
              <a:ext cx="3780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419200" y="4067280"/>
              <a:ext cx="46080" cy="46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465280" y="4047840"/>
              <a:ext cx="17640" cy="19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482920" y="4011480"/>
              <a:ext cx="65160" cy="36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48080" y="3994200"/>
              <a:ext cx="55440" cy="172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03520" y="3994200"/>
              <a:ext cx="2700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30520" y="3994200"/>
              <a:ext cx="3816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68680" y="3994200"/>
              <a:ext cx="27000" cy="7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95680" y="4002120"/>
              <a:ext cx="1908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14760" y="4002120"/>
              <a:ext cx="936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24120" y="4011480"/>
              <a:ext cx="3672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60840" y="4021200"/>
              <a:ext cx="2664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87480" y="4021200"/>
              <a:ext cx="1908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06560" y="4021200"/>
              <a:ext cx="3672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43280" y="4030560"/>
              <a:ext cx="4608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89360" y="4030560"/>
              <a:ext cx="1908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08440" y="4040280"/>
              <a:ext cx="64800" cy="36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73240" y="4076640"/>
              <a:ext cx="27000" cy="46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00240" y="4122720"/>
              <a:ext cx="27000" cy="55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27240" y="4178160"/>
              <a:ext cx="19080" cy="176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46320" y="4195800"/>
              <a:ext cx="9720" cy="28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56040" y="4224240"/>
              <a:ext cx="36360" cy="46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92400" y="4270320"/>
              <a:ext cx="9720" cy="27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02120" y="4297320"/>
              <a:ext cx="19080" cy="19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1200" y="4316400"/>
              <a:ext cx="17280" cy="19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38480" y="4335480"/>
              <a:ext cx="9360" cy="172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47840" y="4352760"/>
              <a:ext cx="19080" cy="19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66920" y="4371840"/>
              <a:ext cx="27000" cy="27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93920" y="4398840"/>
              <a:ext cx="19080" cy="19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13000" y="4417920"/>
              <a:ext cx="1764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230640" y="4427640"/>
              <a:ext cx="936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40000" y="4437000"/>
              <a:ext cx="19080" cy="7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59080" y="4444920"/>
              <a:ext cx="972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68800" y="4454640"/>
              <a:ext cx="1728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86080" y="4464000"/>
              <a:ext cx="1908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05160" y="4473720"/>
              <a:ext cx="972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14880" y="4483080"/>
              <a:ext cx="1728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32160" y="4492800"/>
              <a:ext cx="19080" cy="7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51240" y="4500720"/>
              <a:ext cx="27000" cy="18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78240" y="4519440"/>
              <a:ext cx="1908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97320" y="4519440"/>
              <a:ext cx="936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06680" y="4529160"/>
              <a:ext cx="1764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24320" y="4538520"/>
              <a:ext cx="28440" cy="7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52760" y="4546440"/>
              <a:ext cx="27000" cy="19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79760" y="4565520"/>
              <a:ext cx="1908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98840" y="4575240"/>
              <a:ext cx="1908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517920" y="4584600"/>
              <a:ext cx="7920" cy="7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25840" y="4592520"/>
              <a:ext cx="1908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44920" y="4602240"/>
              <a:ext cx="1908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64000" y="4611600"/>
              <a:ext cx="792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71920" y="4621320"/>
              <a:ext cx="1908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91000" y="4630680"/>
              <a:ext cx="1908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10080" y="4630680"/>
              <a:ext cx="936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19440" y="4630680"/>
              <a:ext cx="1764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37080" y="4640400"/>
              <a:ext cx="1908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56160" y="4640400"/>
              <a:ext cx="936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65520" y="4640400"/>
              <a:ext cx="36360" cy="172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1880" y="4657680"/>
              <a:ext cx="972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11600" y="4657680"/>
              <a:ext cx="1728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28880" y="4667400"/>
              <a:ext cx="972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38600" y="4676760"/>
              <a:ext cx="1908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57680" y="4686480"/>
              <a:ext cx="17280" cy="172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74960" y="4703760"/>
              <a:ext cx="972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84680" y="4703760"/>
              <a:ext cx="36360" cy="19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21040" y="4722840"/>
              <a:ext cx="972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30760" y="4722840"/>
              <a:ext cx="1908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49840" y="4732200"/>
              <a:ext cx="2700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76840" y="4732200"/>
              <a:ext cx="1872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95560" y="4732200"/>
              <a:ext cx="1908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914640" y="4722840"/>
              <a:ext cx="2700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41640" y="4722840"/>
              <a:ext cx="2700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68640" y="4712760"/>
              <a:ext cx="1908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87720" y="4713120"/>
              <a:ext cx="972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97440" y="4713120"/>
              <a:ext cx="1908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16520" y="4713120"/>
              <a:ext cx="1728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33800" y="4713120"/>
              <a:ext cx="2844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62240" y="4722840"/>
              <a:ext cx="1764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79880" y="4722840"/>
              <a:ext cx="936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89240" y="4722840"/>
              <a:ext cx="1908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08320" y="4722840"/>
              <a:ext cx="1764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25960" y="4722840"/>
              <a:ext cx="936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35320" y="4722840"/>
              <a:ext cx="1908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54400" y="4732200"/>
              <a:ext cx="972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64120" y="4732200"/>
              <a:ext cx="1728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81400" y="4732200"/>
              <a:ext cx="1908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00480" y="4741920"/>
              <a:ext cx="972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10200" y="4741920"/>
              <a:ext cx="1728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27480" y="4741920"/>
              <a:ext cx="1908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46560" y="4741920"/>
              <a:ext cx="9360" cy="7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55920" y="4749840"/>
              <a:ext cx="1764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73560" y="4749840"/>
              <a:ext cx="1908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92640" y="4749840"/>
              <a:ext cx="936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02000" y="4749840"/>
              <a:ext cx="1764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19640" y="4749840"/>
              <a:ext cx="1908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38720" y="4749840"/>
              <a:ext cx="936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48080" y="4759200"/>
              <a:ext cx="1908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67160" y="4759200"/>
              <a:ext cx="792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75080" y="4759200"/>
              <a:ext cx="1908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4768920"/>
              <a:ext cx="1908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13240" y="4768920"/>
              <a:ext cx="792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21160" y="4768920"/>
              <a:ext cx="65160" cy="19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486320" y="4788000"/>
              <a:ext cx="19080" cy="7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505400" y="4795920"/>
              <a:ext cx="936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14760" y="4795920"/>
              <a:ext cx="1764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32400" y="4805280"/>
              <a:ext cx="1908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51480" y="4815000"/>
              <a:ext cx="936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60840" y="4824360"/>
              <a:ext cx="1764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578480" y="4824360"/>
              <a:ext cx="28440" cy="176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06920" y="4842000"/>
              <a:ext cx="1764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24560" y="4851360"/>
              <a:ext cx="936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33920" y="4851360"/>
              <a:ext cx="3636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70280" y="4861080"/>
              <a:ext cx="972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80000" y="4870440"/>
              <a:ext cx="1908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99080" y="4870440"/>
              <a:ext cx="1728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716360" y="4870440"/>
              <a:ext cx="972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726080" y="4879800"/>
              <a:ext cx="1908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745160" y="4879800"/>
              <a:ext cx="1908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64240" y="4879800"/>
              <a:ext cx="792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72160" y="4889520"/>
              <a:ext cx="1908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91240" y="4889520"/>
              <a:ext cx="936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00600" y="4889520"/>
              <a:ext cx="36360" cy="7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36960" y="4897440"/>
              <a:ext cx="972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46680" y="4906800"/>
              <a:ext cx="1728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63960" y="4906800"/>
              <a:ext cx="2880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92760" y="4916520"/>
              <a:ext cx="1908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11840" y="4925880"/>
              <a:ext cx="1728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29120" y="4935600"/>
              <a:ext cx="972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38840" y="4935600"/>
              <a:ext cx="19080" cy="7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57920" y="4943520"/>
              <a:ext cx="1728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975200" y="4943520"/>
              <a:ext cx="972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84920" y="4952880"/>
              <a:ext cx="1872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03640" y="4952880"/>
              <a:ext cx="2700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30640" y="4962600"/>
              <a:ext cx="2880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59440" y="4971960"/>
              <a:ext cx="1728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76720" y="4971960"/>
              <a:ext cx="1908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95800" y="4981680"/>
              <a:ext cx="972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05520" y="4981680"/>
              <a:ext cx="1728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22800" y="4981680"/>
              <a:ext cx="19080" cy="7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41880" y="4989600"/>
              <a:ext cx="972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51600" y="4989600"/>
              <a:ext cx="1728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68880" y="4989600"/>
              <a:ext cx="1908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87960" y="4989600"/>
              <a:ext cx="936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97320" y="4989600"/>
              <a:ext cx="1764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14960" y="4989600"/>
              <a:ext cx="936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24320" y="4989600"/>
              <a:ext cx="1908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43400" y="4989600"/>
              <a:ext cx="1764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61040" y="4989600"/>
              <a:ext cx="936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70400" y="4998960"/>
              <a:ext cx="3816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08560" y="4998960"/>
              <a:ext cx="792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16480" y="5008680"/>
              <a:ext cx="1908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35560" y="5008680"/>
              <a:ext cx="1908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54640" y="5008680"/>
              <a:ext cx="4608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00720" y="5008680"/>
              <a:ext cx="936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10080" y="5008680"/>
              <a:ext cx="1764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27720" y="5008680"/>
              <a:ext cx="2844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56160" y="5008680"/>
              <a:ext cx="2700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83160" y="5008680"/>
              <a:ext cx="3672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19880" y="5008680"/>
              <a:ext cx="2844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5548320" y="4998600"/>
              <a:ext cx="2700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75320" y="4998960"/>
              <a:ext cx="1908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94400" y="4998960"/>
              <a:ext cx="1728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611680" y="4998960"/>
              <a:ext cx="972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621400" y="4998960"/>
              <a:ext cx="19080" cy="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640480" y="4998960"/>
              <a:ext cx="5544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95920" y="5008680"/>
              <a:ext cx="1764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3560" y="5008680"/>
              <a:ext cx="1908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5732640" y="4998600"/>
              <a:ext cx="2664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759280" y="4981680"/>
              <a:ext cx="28800" cy="172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788080" y="4971600"/>
              <a:ext cx="19080" cy="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262240" y="3551400"/>
            <a:ext cx="4135320" cy="1420200"/>
            <a:chOff x="2262240" y="3551400"/>
            <a:chExt cx="4135320" cy="1420200"/>
          </a:xfrm>
        </p:grpSpPr>
        <p:sp>
          <p:nvSpPr>
            <p:cNvPr id="469" name=""/>
            <p:cNvSpPr/>
            <p:nvPr/>
          </p:nvSpPr>
          <p:spPr>
            <a:xfrm flipV="1">
              <a:off x="5807160" y="4952520"/>
              <a:ext cx="17280" cy="19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5824440" y="4897440"/>
              <a:ext cx="46080" cy="55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870520" y="4879440"/>
              <a:ext cx="9720" cy="176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880240" y="4833720"/>
              <a:ext cx="27000" cy="45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5907240" y="4805280"/>
              <a:ext cx="18720" cy="28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5925960" y="4788000"/>
              <a:ext cx="19080" cy="172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5945040" y="4759200"/>
              <a:ext cx="9720" cy="28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5954760" y="4722480"/>
              <a:ext cx="36360" cy="36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5991120" y="4694040"/>
              <a:ext cx="9720" cy="28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6000840" y="4676400"/>
              <a:ext cx="17280" cy="176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6018120" y="4647960"/>
              <a:ext cx="19080" cy="28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6037200" y="4630320"/>
              <a:ext cx="9720" cy="176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6046920" y="4601880"/>
              <a:ext cx="17280" cy="28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6064200" y="4574880"/>
              <a:ext cx="19080" cy="27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6083280" y="4555800"/>
              <a:ext cx="9720" cy="19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6093000" y="4510080"/>
              <a:ext cx="26640" cy="46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6119640" y="4454640"/>
              <a:ext cx="36720" cy="55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6156360" y="4408560"/>
              <a:ext cx="28440" cy="46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184800" y="4381200"/>
              <a:ext cx="19080" cy="27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6203880" y="4297320"/>
              <a:ext cx="46080" cy="842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6249960" y="4280040"/>
              <a:ext cx="7920" cy="172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6257880" y="4251240"/>
              <a:ext cx="19080" cy="28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6276960" y="4223880"/>
              <a:ext cx="19080" cy="27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6296040" y="4204800"/>
              <a:ext cx="7920" cy="19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6303960" y="4159080"/>
              <a:ext cx="28440" cy="46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6332400" y="4113000"/>
              <a:ext cx="36720" cy="45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6369120" y="4095360"/>
              <a:ext cx="9360" cy="176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6378480" y="4076280"/>
              <a:ext cx="19080" cy="19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62240" y="3551400"/>
              <a:ext cx="9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71600" y="3551400"/>
              <a:ext cx="176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89240" y="3551400"/>
              <a:ext cx="9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98600" y="3551400"/>
              <a:ext cx="46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34468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63760" y="3551400"/>
              <a:ext cx="176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81400" y="3551400"/>
              <a:ext cx="3780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19200" y="3551400"/>
              <a:ext cx="46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465280" y="3551400"/>
              <a:ext cx="176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482920" y="3551400"/>
              <a:ext cx="651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48080" y="3551400"/>
              <a:ext cx="554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03520" y="3551400"/>
              <a:ext cx="2700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630520" y="3551400"/>
              <a:ext cx="381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668680" y="3551400"/>
              <a:ext cx="2700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9568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714760" y="3551400"/>
              <a:ext cx="9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24120" y="3551400"/>
              <a:ext cx="36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60840" y="3551400"/>
              <a:ext cx="266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78748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806560" y="3551400"/>
              <a:ext cx="36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843280" y="3551400"/>
              <a:ext cx="46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88936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08440" y="3551400"/>
              <a:ext cx="6480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73240" y="3551400"/>
              <a:ext cx="2700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000240" y="3551400"/>
              <a:ext cx="2700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2724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4632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56040" y="3551400"/>
              <a:ext cx="36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9240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10212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121200" y="3551400"/>
              <a:ext cx="172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38480" y="3551400"/>
              <a:ext cx="9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4784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166920" y="3551400"/>
              <a:ext cx="2700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9392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13000" y="3551400"/>
              <a:ext cx="176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30640" y="3551400"/>
              <a:ext cx="9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4000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5908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68800" y="3551400"/>
              <a:ext cx="172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8608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30516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314880" y="3551400"/>
              <a:ext cx="172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3216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51240" y="3551400"/>
              <a:ext cx="2700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7824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97320" y="3551400"/>
              <a:ext cx="9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06680" y="3551400"/>
              <a:ext cx="176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424320" y="3551400"/>
              <a:ext cx="284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452760" y="3551400"/>
              <a:ext cx="2700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7976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9884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17920" y="3551400"/>
              <a:ext cx="79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2584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4492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64000" y="3551400"/>
              <a:ext cx="79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57192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9100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610080" y="3551400"/>
              <a:ext cx="9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19440" y="3551400"/>
              <a:ext cx="176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3708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656160" y="3551400"/>
              <a:ext cx="9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5520" y="3551400"/>
              <a:ext cx="36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70188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711600" y="3551400"/>
              <a:ext cx="172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72888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73860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57680" y="3551400"/>
              <a:ext cx="172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7496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84680" y="3551400"/>
              <a:ext cx="36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2104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3076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49840" y="3551400"/>
              <a:ext cx="2700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76840" y="3551400"/>
              <a:ext cx="18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9556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914640" y="3551400"/>
              <a:ext cx="2700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41640" y="3551400"/>
              <a:ext cx="2700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96864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98772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9744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16520" y="3551400"/>
              <a:ext cx="172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033800" y="3551400"/>
              <a:ext cx="284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062240" y="3551400"/>
              <a:ext cx="176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79880" y="3551400"/>
              <a:ext cx="9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8924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08320" y="3551400"/>
              <a:ext cx="176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125960" y="3551400"/>
              <a:ext cx="9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3532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5440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64120" y="3551400"/>
              <a:ext cx="172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8140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0048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10200" y="3551400"/>
              <a:ext cx="172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2748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246560" y="3551400"/>
              <a:ext cx="9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255920" y="3551400"/>
              <a:ext cx="176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7356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92640" y="3551400"/>
              <a:ext cx="9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302000" y="3551400"/>
              <a:ext cx="176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31964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338720" y="3551400"/>
              <a:ext cx="9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34808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67160" y="3551400"/>
              <a:ext cx="79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37508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9416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13240" y="3551400"/>
              <a:ext cx="79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421160" y="3551400"/>
              <a:ext cx="651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48632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505400" y="3551400"/>
              <a:ext cx="9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514760" y="3551400"/>
              <a:ext cx="176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3240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51480" y="3551400"/>
              <a:ext cx="9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60840" y="3551400"/>
              <a:ext cx="176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78480" y="3551400"/>
              <a:ext cx="284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6920" y="3551400"/>
              <a:ext cx="176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24560" y="3551400"/>
              <a:ext cx="9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33920" y="3551400"/>
              <a:ext cx="36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7028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8000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99080" y="3551400"/>
              <a:ext cx="172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71636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72608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74516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64240" y="3551400"/>
              <a:ext cx="79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7216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791240" y="3551400"/>
              <a:ext cx="9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00600" y="3551400"/>
              <a:ext cx="36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3696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46680" y="3551400"/>
              <a:ext cx="172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863960" y="3551400"/>
              <a:ext cx="2880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89276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911840" y="3551400"/>
              <a:ext cx="172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92912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93884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957920" y="3551400"/>
              <a:ext cx="172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7520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84920" y="3551400"/>
              <a:ext cx="18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003640" y="3551400"/>
              <a:ext cx="2700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30640" y="3551400"/>
              <a:ext cx="2880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59440" y="3551400"/>
              <a:ext cx="172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7672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9580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105520" y="3551400"/>
              <a:ext cx="172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2280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4188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151600" y="3551400"/>
              <a:ext cx="172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16888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187960" y="3551400"/>
              <a:ext cx="9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97320" y="3551400"/>
              <a:ext cx="176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214960" y="3551400"/>
              <a:ext cx="9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2432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43400" y="3551400"/>
              <a:ext cx="176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61040" y="3551400"/>
              <a:ext cx="9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70400" y="3551400"/>
              <a:ext cx="381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308560" y="3551400"/>
              <a:ext cx="79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31648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33556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54640" y="3551400"/>
              <a:ext cx="46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400720" y="3551400"/>
              <a:ext cx="9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410080" y="3551400"/>
              <a:ext cx="176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27720" y="3551400"/>
              <a:ext cx="284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456160" y="3551400"/>
              <a:ext cx="2700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483160" y="3551400"/>
              <a:ext cx="36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519880" y="3551400"/>
              <a:ext cx="284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48320" y="3551400"/>
              <a:ext cx="2700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57532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594400" y="3551400"/>
              <a:ext cx="172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1168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2140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640480" y="3551400"/>
              <a:ext cx="554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95920" y="3551400"/>
              <a:ext cx="176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1356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2262240" y="3365640"/>
            <a:ext cx="4135320" cy="187200"/>
            <a:chOff x="2262240" y="3365640"/>
            <a:chExt cx="4135320" cy="187200"/>
          </a:xfrm>
        </p:grpSpPr>
        <p:sp>
          <p:nvSpPr>
            <p:cNvPr id="670" name=""/>
            <p:cNvSpPr/>
            <p:nvPr/>
          </p:nvSpPr>
          <p:spPr>
            <a:xfrm>
              <a:off x="5732640" y="3551400"/>
              <a:ext cx="266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59280" y="3551400"/>
              <a:ext cx="2880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78808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07160" y="3551400"/>
              <a:ext cx="172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824440" y="3551400"/>
              <a:ext cx="46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87052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880240" y="3551400"/>
              <a:ext cx="2700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907240" y="3551400"/>
              <a:ext cx="18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2596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94504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954760" y="3551400"/>
              <a:ext cx="36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99112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000840" y="3551400"/>
              <a:ext cx="172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01812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720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46920" y="3551400"/>
              <a:ext cx="172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06420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83280" y="3551400"/>
              <a:ext cx="9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093000" y="3551400"/>
              <a:ext cx="266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119640" y="3551400"/>
              <a:ext cx="36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56360" y="3551400"/>
              <a:ext cx="284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18480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203880" y="3551400"/>
              <a:ext cx="46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249960" y="3551400"/>
              <a:ext cx="79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25788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27696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296040" y="3551400"/>
              <a:ext cx="79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303960" y="3551400"/>
              <a:ext cx="2844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332400" y="3551400"/>
              <a:ext cx="3672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369120" y="3551400"/>
              <a:ext cx="936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78480" y="3551400"/>
              <a:ext cx="19080" cy="1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62240" y="3365640"/>
              <a:ext cx="9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71600" y="3365640"/>
              <a:ext cx="176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89240" y="3365640"/>
              <a:ext cx="9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98600" y="3365640"/>
              <a:ext cx="46080" cy="93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34468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363760" y="3375000"/>
              <a:ext cx="176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381400" y="3375000"/>
              <a:ext cx="3780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419200" y="3375000"/>
              <a:ext cx="46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465280" y="3375000"/>
              <a:ext cx="176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82920" y="3375000"/>
              <a:ext cx="651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48080" y="3375000"/>
              <a:ext cx="554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603520" y="3375000"/>
              <a:ext cx="2700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630520" y="3375000"/>
              <a:ext cx="381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668680" y="3375000"/>
              <a:ext cx="2700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9568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14760" y="3375000"/>
              <a:ext cx="9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24120" y="3375000"/>
              <a:ext cx="36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60840" y="3375000"/>
              <a:ext cx="266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78748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06560" y="3375000"/>
              <a:ext cx="36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843280" y="3375000"/>
              <a:ext cx="46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8936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908440" y="3375000"/>
              <a:ext cx="6480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973240" y="3375000"/>
              <a:ext cx="2700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00240" y="3375000"/>
              <a:ext cx="2700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02724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04632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056040" y="3375000"/>
              <a:ext cx="36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09240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10212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121200" y="3375000"/>
              <a:ext cx="172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138480" y="3375000"/>
              <a:ext cx="9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14784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166920" y="3375000"/>
              <a:ext cx="2700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19392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213000" y="3375000"/>
              <a:ext cx="176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230640" y="3375000"/>
              <a:ext cx="9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4000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25908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268800" y="3375000"/>
              <a:ext cx="172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8608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30516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314880" y="3375000"/>
              <a:ext cx="172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33216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351240" y="3375000"/>
              <a:ext cx="2700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7824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397320" y="3375000"/>
              <a:ext cx="9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406680" y="3375000"/>
              <a:ext cx="176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424320" y="3375000"/>
              <a:ext cx="284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452760" y="3375000"/>
              <a:ext cx="2700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47976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49884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517920" y="3375000"/>
              <a:ext cx="79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52584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4492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64000" y="3375000"/>
              <a:ext cx="79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57192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59100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610080" y="3375000"/>
              <a:ext cx="9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619440" y="3375000"/>
              <a:ext cx="176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63708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656160" y="3375000"/>
              <a:ext cx="9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665520" y="3375000"/>
              <a:ext cx="36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0188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711600" y="3375000"/>
              <a:ext cx="172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2888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73860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57680" y="3375000"/>
              <a:ext cx="172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77496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784680" y="3375000"/>
              <a:ext cx="36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82104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3076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49840" y="3375000"/>
              <a:ext cx="2700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876840" y="3375000"/>
              <a:ext cx="18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89556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914640" y="3375000"/>
              <a:ext cx="2700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941640" y="3375000"/>
              <a:ext cx="2700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96864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98772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99744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016520" y="3375000"/>
              <a:ext cx="172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033800" y="3375000"/>
              <a:ext cx="284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062240" y="3375000"/>
              <a:ext cx="176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079880" y="3375000"/>
              <a:ext cx="9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08924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108320" y="3375000"/>
              <a:ext cx="176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25960" y="3375000"/>
              <a:ext cx="9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13532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15440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164120" y="3375000"/>
              <a:ext cx="172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8140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0048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210200" y="3375000"/>
              <a:ext cx="172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748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246560" y="3375000"/>
              <a:ext cx="9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255920" y="3375000"/>
              <a:ext cx="176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27356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92640" y="3375000"/>
              <a:ext cx="9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302000" y="3375000"/>
              <a:ext cx="176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31964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38720" y="3375000"/>
              <a:ext cx="9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4808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367160" y="3375000"/>
              <a:ext cx="79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7508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9416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413240" y="3375000"/>
              <a:ext cx="79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421160" y="3375000"/>
              <a:ext cx="651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48632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505400" y="3375000"/>
              <a:ext cx="9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14760" y="3375000"/>
              <a:ext cx="176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3240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551480" y="3375000"/>
              <a:ext cx="9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560840" y="3375000"/>
              <a:ext cx="176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578480" y="3375000"/>
              <a:ext cx="284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606920" y="3375000"/>
              <a:ext cx="176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624560" y="3375000"/>
              <a:ext cx="9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633920" y="3375000"/>
              <a:ext cx="36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67028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68000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699080" y="3375000"/>
              <a:ext cx="172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71636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72608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74516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64240" y="3375000"/>
              <a:ext cx="79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77216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791240" y="3375000"/>
              <a:ext cx="9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00600" y="3375000"/>
              <a:ext cx="36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83696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846680" y="3375000"/>
              <a:ext cx="172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863960" y="3375000"/>
              <a:ext cx="2880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89276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911840" y="3375000"/>
              <a:ext cx="172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92912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93884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57920" y="3375000"/>
              <a:ext cx="172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97520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984920" y="3375000"/>
              <a:ext cx="18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003640" y="3375000"/>
              <a:ext cx="2700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030640" y="3375000"/>
              <a:ext cx="2880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059440" y="3375000"/>
              <a:ext cx="172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07672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09580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05520" y="3375000"/>
              <a:ext cx="172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2280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14188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151600" y="3375000"/>
              <a:ext cx="172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16888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87960" y="3375000"/>
              <a:ext cx="9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197320" y="3375000"/>
              <a:ext cx="176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214960" y="3375000"/>
              <a:ext cx="9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22432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243400" y="3375000"/>
              <a:ext cx="176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261040" y="3375000"/>
              <a:ext cx="9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270400" y="3375000"/>
              <a:ext cx="381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308560" y="3375000"/>
              <a:ext cx="79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1648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33556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354640" y="3375000"/>
              <a:ext cx="46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400720" y="3375000"/>
              <a:ext cx="9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410080" y="3375000"/>
              <a:ext cx="176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27720" y="3375000"/>
              <a:ext cx="284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456160" y="3375000"/>
              <a:ext cx="2700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483160" y="3375000"/>
              <a:ext cx="36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19880" y="3375000"/>
              <a:ext cx="284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548320" y="3375000"/>
              <a:ext cx="2700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532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94400" y="3375000"/>
              <a:ext cx="172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61168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62140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2262240" y="3218040"/>
            <a:ext cx="4135320" cy="158400"/>
            <a:chOff x="2262240" y="3218040"/>
            <a:chExt cx="4135320" cy="158400"/>
          </a:xfrm>
        </p:grpSpPr>
        <p:sp>
          <p:nvSpPr>
            <p:cNvPr id="871" name=""/>
            <p:cNvSpPr/>
            <p:nvPr/>
          </p:nvSpPr>
          <p:spPr>
            <a:xfrm>
              <a:off x="5640480" y="3375000"/>
              <a:ext cx="554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695920" y="3375000"/>
              <a:ext cx="176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1356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732640" y="3375000"/>
              <a:ext cx="266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59280" y="3375000"/>
              <a:ext cx="2880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78808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807160" y="3375000"/>
              <a:ext cx="172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824440" y="3375000"/>
              <a:ext cx="46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87052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880240" y="3375000"/>
              <a:ext cx="2700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907240" y="3375000"/>
              <a:ext cx="18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92596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94504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954760" y="3375000"/>
              <a:ext cx="36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99112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000840" y="3375000"/>
              <a:ext cx="172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01812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03720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046920" y="3375000"/>
              <a:ext cx="172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06420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083280" y="3375000"/>
              <a:ext cx="9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093000" y="3375000"/>
              <a:ext cx="266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19640" y="3375000"/>
              <a:ext cx="36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56360" y="3375000"/>
              <a:ext cx="284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8480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203880" y="3375000"/>
              <a:ext cx="46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249960" y="3375000"/>
              <a:ext cx="79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25788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27696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3375000"/>
              <a:ext cx="79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303960" y="3375000"/>
              <a:ext cx="2844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332400" y="3375000"/>
              <a:ext cx="367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369120" y="3375000"/>
              <a:ext cx="93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378480" y="3375000"/>
              <a:ext cx="19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262240" y="3218040"/>
              <a:ext cx="936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2271600" y="3218040"/>
              <a:ext cx="1764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89240" y="3218040"/>
              <a:ext cx="93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298600" y="3218040"/>
              <a:ext cx="46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34468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363760" y="3218040"/>
              <a:ext cx="17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381400" y="3218040"/>
              <a:ext cx="378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419200" y="3218040"/>
              <a:ext cx="46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465280" y="3218040"/>
              <a:ext cx="17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482920" y="3218040"/>
              <a:ext cx="651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548080" y="3218040"/>
              <a:ext cx="554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603520" y="3218040"/>
              <a:ext cx="27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630520" y="3218040"/>
              <a:ext cx="381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668680" y="3218040"/>
              <a:ext cx="27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69568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714760" y="3218040"/>
              <a:ext cx="93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724120" y="3218040"/>
              <a:ext cx="36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760840" y="3218040"/>
              <a:ext cx="26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78748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806560" y="3218040"/>
              <a:ext cx="36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843280" y="3218040"/>
              <a:ext cx="46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88936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908440" y="3218040"/>
              <a:ext cx="648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73240" y="3218040"/>
              <a:ext cx="27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000240" y="3218040"/>
              <a:ext cx="27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2724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046320" y="3218040"/>
              <a:ext cx="9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56040" y="3218040"/>
              <a:ext cx="363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092400" y="3218040"/>
              <a:ext cx="9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10212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121200" y="3218040"/>
              <a:ext cx="172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138480" y="3218040"/>
              <a:ext cx="93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14784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166920" y="3218040"/>
              <a:ext cx="27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19392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213000" y="3218040"/>
              <a:ext cx="17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230640" y="3218040"/>
              <a:ext cx="93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24000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259080" y="3218040"/>
              <a:ext cx="9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68800" y="3218040"/>
              <a:ext cx="172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8608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5160" y="3218040"/>
              <a:ext cx="9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314880" y="3218040"/>
              <a:ext cx="172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33216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351240" y="3218040"/>
              <a:ext cx="27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37824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397320" y="3218040"/>
              <a:ext cx="93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406680" y="3218040"/>
              <a:ext cx="17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424320" y="3218040"/>
              <a:ext cx="284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452760" y="3218040"/>
              <a:ext cx="27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47976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49884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17920" y="3218040"/>
              <a:ext cx="79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52584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54492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564000" y="3218040"/>
              <a:ext cx="79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57192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59100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610080" y="3218040"/>
              <a:ext cx="93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19440" y="3218040"/>
              <a:ext cx="17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63708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656160" y="3218040"/>
              <a:ext cx="93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665520" y="3218040"/>
              <a:ext cx="363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701880" y="3218040"/>
              <a:ext cx="972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3711600" y="3218040"/>
              <a:ext cx="1728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728880" y="3218040"/>
              <a:ext cx="9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73860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757680" y="3218040"/>
              <a:ext cx="172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74960" y="3218040"/>
              <a:ext cx="9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784680" y="3218040"/>
              <a:ext cx="3636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3821040" y="3218040"/>
              <a:ext cx="972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830760" y="3218040"/>
              <a:ext cx="1908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3849840" y="3218040"/>
              <a:ext cx="2700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876840" y="3218040"/>
              <a:ext cx="18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895560" y="3218040"/>
              <a:ext cx="1908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3914640" y="3218040"/>
              <a:ext cx="2700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941640" y="3218040"/>
              <a:ext cx="27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96864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987720" y="3218040"/>
              <a:ext cx="9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99744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16520" y="3218040"/>
              <a:ext cx="172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033800" y="3218040"/>
              <a:ext cx="284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62240" y="3218040"/>
              <a:ext cx="1764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4079880" y="3218040"/>
              <a:ext cx="936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08924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108320" y="3218040"/>
              <a:ext cx="17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125960" y="3218040"/>
              <a:ext cx="93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3532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54400" y="3218040"/>
              <a:ext cx="9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64120" y="3218040"/>
              <a:ext cx="172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8140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00480" y="3218040"/>
              <a:ext cx="9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210200" y="3218040"/>
              <a:ext cx="172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2748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246560" y="3218040"/>
              <a:ext cx="936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4255920" y="3218040"/>
              <a:ext cx="1764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273560" y="3218040"/>
              <a:ext cx="1908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4292640" y="3218040"/>
              <a:ext cx="936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302000" y="3218040"/>
              <a:ext cx="1764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4319640" y="3218040"/>
              <a:ext cx="1908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338720" y="3218040"/>
              <a:ext cx="93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34808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367160" y="3218040"/>
              <a:ext cx="79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7508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39416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413240" y="3218040"/>
              <a:ext cx="79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421160" y="3218040"/>
              <a:ext cx="651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486320" y="3218040"/>
              <a:ext cx="1908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4505400" y="3218040"/>
              <a:ext cx="936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514760" y="3218040"/>
              <a:ext cx="17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53240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551480" y="3218040"/>
              <a:ext cx="93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560840" y="3218040"/>
              <a:ext cx="17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578480" y="3218040"/>
              <a:ext cx="2844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4606920" y="3218040"/>
              <a:ext cx="1764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624560" y="3218040"/>
              <a:ext cx="936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4633920" y="3218040"/>
              <a:ext cx="3636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670280" y="3218040"/>
              <a:ext cx="972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680000" y="322740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4699080" y="3218040"/>
              <a:ext cx="1728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716360" y="3218040"/>
              <a:ext cx="9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72608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745160" y="3218040"/>
              <a:ext cx="1908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4764240" y="3218040"/>
              <a:ext cx="792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77216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791240" y="3218040"/>
              <a:ext cx="93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800600" y="3218040"/>
              <a:ext cx="363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836960" y="3218040"/>
              <a:ext cx="972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846680" y="3227400"/>
              <a:ext cx="172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4863960" y="3218040"/>
              <a:ext cx="28800" cy="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89276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911840" y="3218040"/>
              <a:ext cx="172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929120" y="3218040"/>
              <a:ext cx="9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93884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957920" y="3218040"/>
              <a:ext cx="172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975200" y="3218040"/>
              <a:ext cx="9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984920" y="3218040"/>
              <a:ext cx="18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003640" y="3218040"/>
              <a:ext cx="27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030640" y="3218040"/>
              <a:ext cx="288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059440" y="3218040"/>
              <a:ext cx="172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07672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095800" y="3218040"/>
              <a:ext cx="9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105520" y="3218040"/>
              <a:ext cx="172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12280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41880" y="3218040"/>
              <a:ext cx="9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151600" y="3218040"/>
              <a:ext cx="172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16888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187960" y="3218040"/>
              <a:ext cx="93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197320" y="3218040"/>
              <a:ext cx="17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214960" y="3218040"/>
              <a:ext cx="93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22432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43400" y="3218040"/>
              <a:ext cx="17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61040" y="3218040"/>
              <a:ext cx="93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270400" y="3218040"/>
              <a:ext cx="381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308560" y="3218040"/>
              <a:ext cx="79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31648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33556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354640" y="3218040"/>
              <a:ext cx="46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400720" y="3218040"/>
              <a:ext cx="93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410080" y="3218040"/>
              <a:ext cx="17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427720" y="3218040"/>
              <a:ext cx="284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456160" y="3218040"/>
              <a:ext cx="27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483160" y="3218040"/>
              <a:ext cx="36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519880" y="3218040"/>
              <a:ext cx="284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548320" y="3218040"/>
              <a:ext cx="27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57532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2262240" y="3106440"/>
            <a:ext cx="4135320" cy="113040"/>
            <a:chOff x="2262240" y="3106440"/>
            <a:chExt cx="4135320" cy="113040"/>
          </a:xfrm>
        </p:grpSpPr>
        <p:sp>
          <p:nvSpPr>
            <p:cNvPr id="1072" name=""/>
            <p:cNvSpPr/>
            <p:nvPr/>
          </p:nvSpPr>
          <p:spPr>
            <a:xfrm>
              <a:off x="5594400" y="3218040"/>
              <a:ext cx="172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611680" y="3218040"/>
              <a:ext cx="9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62140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640480" y="3218040"/>
              <a:ext cx="554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695920" y="3218040"/>
              <a:ext cx="17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1356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32640" y="3218040"/>
              <a:ext cx="26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59280" y="3218040"/>
              <a:ext cx="288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8808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807160" y="3218040"/>
              <a:ext cx="172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824440" y="3218040"/>
              <a:ext cx="46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870520" y="3218040"/>
              <a:ext cx="9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880240" y="3218040"/>
              <a:ext cx="27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907240" y="3218040"/>
              <a:ext cx="18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92596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45040" y="3218040"/>
              <a:ext cx="9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954760" y="3218040"/>
              <a:ext cx="363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991120" y="3218040"/>
              <a:ext cx="9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000840" y="3218040"/>
              <a:ext cx="172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01812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37200" y="3218040"/>
              <a:ext cx="9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046920" y="3218040"/>
              <a:ext cx="172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06420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083280" y="3218040"/>
              <a:ext cx="9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93000" y="3218040"/>
              <a:ext cx="26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119640" y="3218040"/>
              <a:ext cx="36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156360" y="3218040"/>
              <a:ext cx="284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8480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203880" y="3218040"/>
              <a:ext cx="46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249960" y="3218040"/>
              <a:ext cx="79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25788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27696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296040" y="3218040"/>
              <a:ext cx="79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303960" y="3218040"/>
              <a:ext cx="284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332400" y="3218040"/>
              <a:ext cx="36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369120" y="3218040"/>
              <a:ext cx="93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378480" y="3218040"/>
              <a:ext cx="19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262240" y="3116160"/>
              <a:ext cx="9360" cy="9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2271600" y="3106440"/>
              <a:ext cx="17640" cy="1908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289240" y="3106800"/>
              <a:ext cx="9360" cy="936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298600" y="3116160"/>
              <a:ext cx="46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34468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363760" y="3116160"/>
              <a:ext cx="176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381400" y="3116160"/>
              <a:ext cx="3780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419200" y="3116160"/>
              <a:ext cx="46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465280" y="3116160"/>
              <a:ext cx="176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482920" y="3116160"/>
              <a:ext cx="651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548080" y="3116160"/>
              <a:ext cx="554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603520" y="3116160"/>
              <a:ext cx="2700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630520" y="3116160"/>
              <a:ext cx="381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668680" y="3116160"/>
              <a:ext cx="2700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9568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714760" y="3116160"/>
              <a:ext cx="9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724120" y="3116160"/>
              <a:ext cx="36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760840" y="3116160"/>
              <a:ext cx="266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78748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806560" y="3116160"/>
              <a:ext cx="36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843280" y="3116160"/>
              <a:ext cx="46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88936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908440" y="3116160"/>
              <a:ext cx="6480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973240" y="3116160"/>
              <a:ext cx="2700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000240" y="3116160"/>
              <a:ext cx="2700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2724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04632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56040" y="3116160"/>
              <a:ext cx="36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09240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10212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121200" y="3116160"/>
              <a:ext cx="17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138480" y="3116160"/>
              <a:ext cx="9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14784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166920" y="3116160"/>
              <a:ext cx="2700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19392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213000" y="3116160"/>
              <a:ext cx="176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230640" y="3116160"/>
              <a:ext cx="9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24000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25908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268800" y="3116160"/>
              <a:ext cx="17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28608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30516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314880" y="3116160"/>
              <a:ext cx="17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33216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351240" y="3116160"/>
              <a:ext cx="2700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37824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397320" y="3116160"/>
              <a:ext cx="9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406680" y="3116160"/>
              <a:ext cx="176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424320" y="3116160"/>
              <a:ext cx="284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452760" y="3116160"/>
              <a:ext cx="2700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47976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49884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517920" y="3116160"/>
              <a:ext cx="79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52584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4492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564000" y="3116160"/>
              <a:ext cx="79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57192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59100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610080" y="3116160"/>
              <a:ext cx="9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619440" y="3116160"/>
              <a:ext cx="176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3708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656160" y="3116160"/>
              <a:ext cx="9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665520" y="3116160"/>
              <a:ext cx="36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70188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711600" y="3116160"/>
              <a:ext cx="17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72888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73860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757680" y="3116160"/>
              <a:ext cx="17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77496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784680" y="3116160"/>
              <a:ext cx="36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82104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83076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849840" y="3116160"/>
              <a:ext cx="2700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876840" y="3116160"/>
              <a:ext cx="18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89556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914640" y="3116160"/>
              <a:ext cx="2700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941640" y="3116160"/>
              <a:ext cx="2700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96864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98772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99744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016520" y="3116160"/>
              <a:ext cx="17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033800" y="3116160"/>
              <a:ext cx="284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062240" y="3116160"/>
              <a:ext cx="176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079880" y="3116160"/>
              <a:ext cx="9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08924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08320" y="3116160"/>
              <a:ext cx="176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25960" y="3116160"/>
              <a:ext cx="9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3532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5440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64120" y="3116160"/>
              <a:ext cx="17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8140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0048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10200" y="3116160"/>
              <a:ext cx="17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2748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46560" y="3116160"/>
              <a:ext cx="9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55920" y="3116160"/>
              <a:ext cx="176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7356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92640" y="3116160"/>
              <a:ext cx="9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302000" y="3116160"/>
              <a:ext cx="176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31964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338720" y="3116160"/>
              <a:ext cx="9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34808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367160" y="3116160"/>
              <a:ext cx="79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37508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39416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413240" y="3116160"/>
              <a:ext cx="79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421160" y="3116160"/>
              <a:ext cx="651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48632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05400" y="3116160"/>
              <a:ext cx="9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14760" y="3116160"/>
              <a:ext cx="176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3240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51480" y="3116160"/>
              <a:ext cx="9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560840" y="3116160"/>
              <a:ext cx="176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578480" y="3116160"/>
              <a:ext cx="284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06920" y="3116160"/>
              <a:ext cx="176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24560" y="3116160"/>
              <a:ext cx="9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633920" y="3116160"/>
              <a:ext cx="36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67028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68000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699080" y="3116160"/>
              <a:ext cx="17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71636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2608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4516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764240" y="3116160"/>
              <a:ext cx="79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77216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791240" y="3116160"/>
              <a:ext cx="9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800600" y="3116160"/>
              <a:ext cx="36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83696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846680" y="3116160"/>
              <a:ext cx="17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863960" y="3116160"/>
              <a:ext cx="2880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89276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911840" y="3116160"/>
              <a:ext cx="17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92912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93884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957920" y="3116160"/>
              <a:ext cx="17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97520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984920" y="3116160"/>
              <a:ext cx="18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003640" y="3116160"/>
              <a:ext cx="2700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030640" y="3116160"/>
              <a:ext cx="2880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059440" y="3116160"/>
              <a:ext cx="17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07672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9580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105520" y="3116160"/>
              <a:ext cx="17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12280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14188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151600" y="3116160"/>
              <a:ext cx="17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16888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187960" y="3116160"/>
              <a:ext cx="9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197320" y="3116160"/>
              <a:ext cx="176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214960" y="3116160"/>
              <a:ext cx="9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22432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43400" y="3116160"/>
              <a:ext cx="176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61040" y="3116160"/>
              <a:ext cx="9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270400" y="3116160"/>
              <a:ext cx="381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308560" y="3116160"/>
              <a:ext cx="79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31648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33556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354640" y="3116160"/>
              <a:ext cx="46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400720" y="3116160"/>
              <a:ext cx="9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410080" y="3116160"/>
              <a:ext cx="176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427720" y="3116160"/>
              <a:ext cx="284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456160" y="3116160"/>
              <a:ext cx="2700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483160" y="3116160"/>
              <a:ext cx="36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2262240" y="3069720"/>
            <a:ext cx="4135320" cy="48240"/>
            <a:chOff x="2262240" y="3069720"/>
            <a:chExt cx="4135320" cy="48240"/>
          </a:xfrm>
        </p:grpSpPr>
        <p:sp>
          <p:nvSpPr>
            <p:cNvPr id="1273" name=""/>
            <p:cNvSpPr/>
            <p:nvPr/>
          </p:nvSpPr>
          <p:spPr>
            <a:xfrm>
              <a:off x="5519880" y="3116160"/>
              <a:ext cx="284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548320" y="3116160"/>
              <a:ext cx="2700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57532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594400" y="3116160"/>
              <a:ext cx="17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61168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62140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640480" y="3116160"/>
              <a:ext cx="554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695920" y="3116160"/>
              <a:ext cx="176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1356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32640" y="3116160"/>
              <a:ext cx="266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59280" y="3116160"/>
              <a:ext cx="2880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8808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807160" y="3116160"/>
              <a:ext cx="17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824440" y="3116160"/>
              <a:ext cx="46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87052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880240" y="3116160"/>
              <a:ext cx="2700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907240" y="3116160"/>
              <a:ext cx="18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92596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94504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954760" y="3116160"/>
              <a:ext cx="36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99112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000840" y="3116160"/>
              <a:ext cx="17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01812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03720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046920" y="3116160"/>
              <a:ext cx="17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06420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083280" y="3116160"/>
              <a:ext cx="9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093000" y="3116160"/>
              <a:ext cx="266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119640" y="3116160"/>
              <a:ext cx="36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156360" y="3116160"/>
              <a:ext cx="284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18480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203880" y="3116160"/>
              <a:ext cx="46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249960" y="3116160"/>
              <a:ext cx="79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25788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27696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96040" y="3116160"/>
              <a:ext cx="79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303960" y="3116160"/>
              <a:ext cx="2844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32400" y="3116160"/>
              <a:ext cx="3672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369120" y="3116160"/>
              <a:ext cx="936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378480" y="3116160"/>
              <a:ext cx="190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262240" y="3070080"/>
              <a:ext cx="9360" cy="972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2271600" y="3069720"/>
              <a:ext cx="17640" cy="972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289240" y="3070080"/>
              <a:ext cx="9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298600" y="3070080"/>
              <a:ext cx="46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34468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363760" y="3070080"/>
              <a:ext cx="176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381400" y="3070080"/>
              <a:ext cx="3780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419200" y="3070080"/>
              <a:ext cx="46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465280" y="3070080"/>
              <a:ext cx="176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482920" y="3070080"/>
              <a:ext cx="651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548080" y="3070080"/>
              <a:ext cx="554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603520" y="3070080"/>
              <a:ext cx="2700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630520" y="3070080"/>
              <a:ext cx="381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668680" y="3070080"/>
              <a:ext cx="2700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69568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714760" y="3070080"/>
              <a:ext cx="9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724120" y="3070080"/>
              <a:ext cx="36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760840" y="3070080"/>
              <a:ext cx="266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78748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806560" y="3070080"/>
              <a:ext cx="36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843280" y="3070080"/>
              <a:ext cx="46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88936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908440" y="3070080"/>
              <a:ext cx="6480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973240" y="3070080"/>
              <a:ext cx="2700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000240" y="3070080"/>
              <a:ext cx="2700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02724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04632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056040" y="3070080"/>
              <a:ext cx="36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09240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10212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121200" y="3070080"/>
              <a:ext cx="172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138480" y="3070080"/>
              <a:ext cx="9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14784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166920" y="3070080"/>
              <a:ext cx="2700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19392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213000" y="3070080"/>
              <a:ext cx="176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230640" y="3070080"/>
              <a:ext cx="9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24000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25908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268800" y="3070080"/>
              <a:ext cx="172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28608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30516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314880" y="3070080"/>
              <a:ext cx="172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33216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351240" y="3070080"/>
              <a:ext cx="2700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37824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397320" y="3070080"/>
              <a:ext cx="9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406680" y="3070080"/>
              <a:ext cx="176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424320" y="3070080"/>
              <a:ext cx="284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452760" y="3070080"/>
              <a:ext cx="2700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47976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49884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517920" y="3070080"/>
              <a:ext cx="79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52584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54492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564000" y="3070080"/>
              <a:ext cx="79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57192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59100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610080" y="3070080"/>
              <a:ext cx="9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619440" y="3070080"/>
              <a:ext cx="176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63708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656160" y="3070080"/>
              <a:ext cx="9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665520" y="3070080"/>
              <a:ext cx="36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70188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711600" y="3070080"/>
              <a:ext cx="172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72888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73860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757680" y="3070080"/>
              <a:ext cx="172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77496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784680" y="3070080"/>
              <a:ext cx="36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82104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83076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849840" y="3070080"/>
              <a:ext cx="2700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876840" y="3070080"/>
              <a:ext cx="18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9556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914640" y="3070080"/>
              <a:ext cx="2700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941640" y="3070080"/>
              <a:ext cx="2700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96864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98772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99744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016520" y="3070080"/>
              <a:ext cx="172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33800" y="3070080"/>
              <a:ext cx="284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062240" y="3070080"/>
              <a:ext cx="176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079880" y="3070080"/>
              <a:ext cx="9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08924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108320" y="3070080"/>
              <a:ext cx="176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125960" y="3070080"/>
              <a:ext cx="9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3532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15440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164120" y="3070080"/>
              <a:ext cx="172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18140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20048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210200" y="3070080"/>
              <a:ext cx="172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22748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246560" y="3070080"/>
              <a:ext cx="9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255920" y="3070080"/>
              <a:ext cx="176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27356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292640" y="3070080"/>
              <a:ext cx="9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302000" y="3070080"/>
              <a:ext cx="176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31964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338720" y="3070080"/>
              <a:ext cx="9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34808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67160" y="3070080"/>
              <a:ext cx="79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37508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39416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413240" y="3070080"/>
              <a:ext cx="79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421160" y="3070080"/>
              <a:ext cx="651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48632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505400" y="3070080"/>
              <a:ext cx="9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514760" y="3070080"/>
              <a:ext cx="176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53240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551480" y="3070080"/>
              <a:ext cx="9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560840" y="3070080"/>
              <a:ext cx="176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578480" y="3070080"/>
              <a:ext cx="284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606920" y="3070080"/>
              <a:ext cx="176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624560" y="3070080"/>
              <a:ext cx="9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633920" y="3070080"/>
              <a:ext cx="36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67028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68000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699080" y="3070080"/>
              <a:ext cx="172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71636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72608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4516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64240" y="3070080"/>
              <a:ext cx="79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7216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91240" y="3070080"/>
              <a:ext cx="9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800600" y="3070080"/>
              <a:ext cx="36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83696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846680" y="3070080"/>
              <a:ext cx="172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863960" y="3070080"/>
              <a:ext cx="2880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89276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911840" y="3070080"/>
              <a:ext cx="172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92912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93884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957920" y="3070080"/>
              <a:ext cx="172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97520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984920" y="3070080"/>
              <a:ext cx="18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003640" y="3070080"/>
              <a:ext cx="2700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030640" y="3070080"/>
              <a:ext cx="2880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059440" y="3070080"/>
              <a:ext cx="172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07672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09580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105520" y="3070080"/>
              <a:ext cx="172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12280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14188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151600" y="3070080"/>
              <a:ext cx="172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16888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187960" y="3070080"/>
              <a:ext cx="9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197320" y="3070080"/>
              <a:ext cx="176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214960" y="3070080"/>
              <a:ext cx="9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22432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243400" y="3070080"/>
              <a:ext cx="176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261040" y="3070080"/>
              <a:ext cx="9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270400" y="3070080"/>
              <a:ext cx="381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308560" y="3070080"/>
              <a:ext cx="79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31648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33556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354640" y="3070080"/>
              <a:ext cx="46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400720" y="3070080"/>
              <a:ext cx="9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410080" y="3070080"/>
              <a:ext cx="176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2262240" y="3069720"/>
            <a:ext cx="4135320" cy="84240"/>
            <a:chOff x="2262240" y="3069720"/>
            <a:chExt cx="4135320" cy="84240"/>
          </a:xfrm>
        </p:grpSpPr>
        <p:sp>
          <p:nvSpPr>
            <p:cNvPr id="1474" name=""/>
            <p:cNvSpPr/>
            <p:nvPr/>
          </p:nvSpPr>
          <p:spPr>
            <a:xfrm>
              <a:off x="5427720" y="3070080"/>
              <a:ext cx="284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456160" y="3070080"/>
              <a:ext cx="2700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483160" y="3070080"/>
              <a:ext cx="36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519880" y="3070080"/>
              <a:ext cx="284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548320" y="3070080"/>
              <a:ext cx="2700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57532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594400" y="3070080"/>
              <a:ext cx="172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61168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62140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640480" y="3070080"/>
              <a:ext cx="554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695920" y="3070080"/>
              <a:ext cx="176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71356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732640" y="3070080"/>
              <a:ext cx="266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759280" y="3070080"/>
              <a:ext cx="2880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78808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807160" y="3070080"/>
              <a:ext cx="172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824440" y="3070080"/>
              <a:ext cx="46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87052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880240" y="3070080"/>
              <a:ext cx="2700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907240" y="3070080"/>
              <a:ext cx="18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92596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94504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954760" y="3070080"/>
              <a:ext cx="36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99112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000840" y="3070080"/>
              <a:ext cx="172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01812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03720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046920" y="3070080"/>
              <a:ext cx="172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06420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083280" y="3070080"/>
              <a:ext cx="9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093000" y="3070080"/>
              <a:ext cx="266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119640" y="3070080"/>
              <a:ext cx="36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156360" y="3070080"/>
              <a:ext cx="284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184800" y="3070080"/>
              <a:ext cx="19080" cy="972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V="1">
              <a:off x="6203880" y="3069720"/>
              <a:ext cx="46080" cy="972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249960" y="3070080"/>
              <a:ext cx="79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25788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7696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296040" y="3070080"/>
              <a:ext cx="79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303960" y="3070080"/>
              <a:ext cx="2844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332400" y="3070080"/>
              <a:ext cx="3672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369120" y="3070080"/>
              <a:ext cx="936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378480" y="3070080"/>
              <a:ext cx="19080" cy="1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2262240" y="3088800"/>
              <a:ext cx="9360" cy="6516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271600" y="3089160"/>
              <a:ext cx="176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289240" y="3089160"/>
              <a:ext cx="9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98600" y="3089160"/>
              <a:ext cx="46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34468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363760" y="3089160"/>
              <a:ext cx="176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381400" y="3089160"/>
              <a:ext cx="3780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419200" y="3089160"/>
              <a:ext cx="46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465280" y="3089160"/>
              <a:ext cx="176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482920" y="3089160"/>
              <a:ext cx="651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48080" y="3089160"/>
              <a:ext cx="554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603520" y="3089160"/>
              <a:ext cx="2700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630520" y="3089160"/>
              <a:ext cx="381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668680" y="3089160"/>
              <a:ext cx="2700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69568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714760" y="3089160"/>
              <a:ext cx="9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724120" y="3089160"/>
              <a:ext cx="36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760840" y="3089160"/>
              <a:ext cx="266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78748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06560" y="3089160"/>
              <a:ext cx="36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843280" y="3089160"/>
              <a:ext cx="46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88936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908440" y="3089160"/>
              <a:ext cx="6480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973240" y="3089160"/>
              <a:ext cx="2700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000240" y="3089160"/>
              <a:ext cx="2700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02724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046320" y="3089160"/>
              <a:ext cx="9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056040" y="3089160"/>
              <a:ext cx="36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092400" y="3089160"/>
              <a:ext cx="9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10212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121200" y="3089160"/>
              <a:ext cx="172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138480" y="3089160"/>
              <a:ext cx="9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14784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166920" y="3089160"/>
              <a:ext cx="2700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19392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213000" y="3089160"/>
              <a:ext cx="176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230640" y="3089160"/>
              <a:ext cx="9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24000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259080" y="3089160"/>
              <a:ext cx="9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268800" y="3089160"/>
              <a:ext cx="172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28608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305160" y="3089160"/>
              <a:ext cx="9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314880" y="3089160"/>
              <a:ext cx="172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33216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351240" y="3089160"/>
              <a:ext cx="2700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37824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397320" y="3089160"/>
              <a:ext cx="9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406680" y="3089160"/>
              <a:ext cx="176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424320" y="3089160"/>
              <a:ext cx="284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452760" y="3089160"/>
              <a:ext cx="2700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47976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49884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517920" y="3089160"/>
              <a:ext cx="79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52584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54492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64000" y="3089160"/>
              <a:ext cx="79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571920" y="3089160"/>
              <a:ext cx="19080" cy="972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591000" y="3098880"/>
              <a:ext cx="19080" cy="144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V="1">
              <a:off x="3610080" y="3088800"/>
              <a:ext cx="9360" cy="972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619440" y="3089160"/>
              <a:ext cx="176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63708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656160" y="3089160"/>
              <a:ext cx="9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665520" y="3089160"/>
              <a:ext cx="36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701880" y="3089160"/>
              <a:ext cx="9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711600" y="3089160"/>
              <a:ext cx="172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728880" y="3089160"/>
              <a:ext cx="9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73860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757680" y="3089160"/>
              <a:ext cx="172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774960" y="3089160"/>
              <a:ext cx="9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784680" y="3089160"/>
              <a:ext cx="36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821040" y="3089160"/>
              <a:ext cx="9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83076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849840" y="3089160"/>
              <a:ext cx="2700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876840" y="3089160"/>
              <a:ext cx="18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89556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914640" y="3089160"/>
              <a:ext cx="2700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941640" y="3089160"/>
              <a:ext cx="2700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96864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987720" y="3089160"/>
              <a:ext cx="9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99744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016520" y="3089160"/>
              <a:ext cx="172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033800" y="3089160"/>
              <a:ext cx="284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062240" y="3089160"/>
              <a:ext cx="176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079880" y="3089160"/>
              <a:ext cx="9360" cy="972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4089240" y="3088800"/>
              <a:ext cx="19080" cy="972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108320" y="3089160"/>
              <a:ext cx="176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125960" y="3089160"/>
              <a:ext cx="9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13532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154400" y="3089160"/>
              <a:ext cx="9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164120" y="3089160"/>
              <a:ext cx="17280" cy="972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4181400" y="3088800"/>
              <a:ext cx="19080" cy="972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200480" y="3089160"/>
              <a:ext cx="9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210200" y="3089160"/>
              <a:ext cx="172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22748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246560" y="3089160"/>
              <a:ext cx="9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255920" y="3089160"/>
              <a:ext cx="176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27356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292640" y="3089160"/>
              <a:ext cx="9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302000" y="3089160"/>
              <a:ext cx="176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31964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338720" y="3089160"/>
              <a:ext cx="9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34808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367160" y="3089160"/>
              <a:ext cx="7920" cy="972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V="1">
              <a:off x="4375080" y="3088800"/>
              <a:ext cx="19080" cy="972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39416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413240" y="3089160"/>
              <a:ext cx="7920" cy="972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4421160" y="3088800"/>
              <a:ext cx="65160" cy="972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48632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505400" y="3089160"/>
              <a:ext cx="9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514760" y="3089160"/>
              <a:ext cx="176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53240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551480" y="3089160"/>
              <a:ext cx="9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560840" y="3089160"/>
              <a:ext cx="176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578480" y="3089160"/>
              <a:ext cx="284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606920" y="3089160"/>
              <a:ext cx="176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624560" y="3089160"/>
              <a:ext cx="9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633920" y="3089160"/>
              <a:ext cx="36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670280" y="3089160"/>
              <a:ext cx="9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68000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699080" y="3089160"/>
              <a:ext cx="17280" cy="972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4716360" y="3088800"/>
              <a:ext cx="9720" cy="972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72608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74516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764240" y="3089160"/>
              <a:ext cx="79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77216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791240" y="3089160"/>
              <a:ext cx="9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800600" y="3089160"/>
              <a:ext cx="36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836960" y="3089160"/>
              <a:ext cx="9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846680" y="3089160"/>
              <a:ext cx="172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63960" y="3089160"/>
              <a:ext cx="2880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89276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11840" y="3089160"/>
              <a:ext cx="172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929120" y="3089160"/>
              <a:ext cx="9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93884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957920" y="3089160"/>
              <a:ext cx="172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975200" y="3089160"/>
              <a:ext cx="9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984920" y="3089160"/>
              <a:ext cx="18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03640" y="3089160"/>
              <a:ext cx="2700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030640" y="3089160"/>
              <a:ext cx="2880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059440" y="3089160"/>
              <a:ext cx="172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07672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095800" y="3089160"/>
              <a:ext cx="9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105520" y="3089160"/>
              <a:ext cx="17280" cy="972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122800" y="3098880"/>
              <a:ext cx="19080" cy="144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5141880" y="3088800"/>
              <a:ext cx="9720" cy="972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151600" y="3089160"/>
              <a:ext cx="172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6888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187960" y="3089160"/>
              <a:ext cx="9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197320" y="3089160"/>
              <a:ext cx="176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214960" y="3089160"/>
              <a:ext cx="9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22432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243400" y="3089160"/>
              <a:ext cx="176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261040" y="3089160"/>
              <a:ext cx="9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270400" y="3089160"/>
              <a:ext cx="381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308560" y="3089160"/>
              <a:ext cx="79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31648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33556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2262240" y="2958840"/>
            <a:ext cx="4135320" cy="140040"/>
            <a:chOff x="2262240" y="2958840"/>
            <a:chExt cx="4135320" cy="140040"/>
          </a:xfrm>
        </p:grpSpPr>
        <p:sp>
          <p:nvSpPr>
            <p:cNvPr id="1675" name=""/>
            <p:cNvSpPr/>
            <p:nvPr/>
          </p:nvSpPr>
          <p:spPr>
            <a:xfrm>
              <a:off x="5354640" y="3089160"/>
              <a:ext cx="46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400720" y="3089160"/>
              <a:ext cx="9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410080" y="3089160"/>
              <a:ext cx="176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427720" y="3089160"/>
              <a:ext cx="284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456160" y="3089160"/>
              <a:ext cx="2700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483160" y="3089160"/>
              <a:ext cx="36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519880" y="3089160"/>
              <a:ext cx="284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548320" y="3089160"/>
              <a:ext cx="2700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575320" y="3089160"/>
              <a:ext cx="19080" cy="972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5594400" y="3088800"/>
              <a:ext cx="17280" cy="972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611680" y="3089160"/>
              <a:ext cx="9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62140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640480" y="3089160"/>
              <a:ext cx="55440" cy="972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5695920" y="3088800"/>
              <a:ext cx="17640" cy="972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71356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732640" y="3089160"/>
              <a:ext cx="266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759280" y="3089160"/>
              <a:ext cx="2880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78808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807160" y="3089160"/>
              <a:ext cx="172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824440" y="3089160"/>
              <a:ext cx="46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870520" y="3089160"/>
              <a:ext cx="9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880240" y="3089160"/>
              <a:ext cx="2700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907240" y="3089160"/>
              <a:ext cx="18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92596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945040" y="3089160"/>
              <a:ext cx="9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954760" y="3089160"/>
              <a:ext cx="36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991120" y="3089160"/>
              <a:ext cx="9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000840" y="3089160"/>
              <a:ext cx="172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01812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037200" y="3089160"/>
              <a:ext cx="9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046920" y="3089160"/>
              <a:ext cx="172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06420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083280" y="3089160"/>
              <a:ext cx="9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093000" y="3089160"/>
              <a:ext cx="266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119640" y="3089160"/>
              <a:ext cx="36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156360" y="3089160"/>
              <a:ext cx="284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18480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203880" y="3089160"/>
              <a:ext cx="46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249960" y="3089160"/>
              <a:ext cx="79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25788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27696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296040" y="3089160"/>
              <a:ext cx="79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303960" y="3089160"/>
              <a:ext cx="2844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332400" y="3089160"/>
              <a:ext cx="3672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369120" y="3089160"/>
              <a:ext cx="936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378480" y="3089160"/>
              <a:ext cx="19080" cy="180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V="1">
              <a:off x="2262240" y="2958840"/>
              <a:ext cx="9360" cy="6516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271600" y="2959200"/>
              <a:ext cx="1764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289240" y="2959200"/>
              <a:ext cx="9360" cy="936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298600" y="2968560"/>
              <a:ext cx="46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34468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363760" y="2968560"/>
              <a:ext cx="176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381400" y="2968560"/>
              <a:ext cx="378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419200" y="2968560"/>
              <a:ext cx="46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465280" y="2968560"/>
              <a:ext cx="176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482920" y="2968560"/>
              <a:ext cx="651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548080" y="2968560"/>
              <a:ext cx="554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603520" y="2968560"/>
              <a:ext cx="27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630520" y="2968560"/>
              <a:ext cx="381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668680" y="2968560"/>
              <a:ext cx="27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69568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714760" y="2968560"/>
              <a:ext cx="9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724120" y="2968560"/>
              <a:ext cx="36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760840" y="2968560"/>
              <a:ext cx="266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78748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806560" y="2968560"/>
              <a:ext cx="36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843280" y="2968560"/>
              <a:ext cx="46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88936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908440" y="2968560"/>
              <a:ext cx="648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973240" y="2968560"/>
              <a:ext cx="27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000240" y="2968560"/>
              <a:ext cx="27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02724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04632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056040" y="2968560"/>
              <a:ext cx="36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09240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10212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121200" y="2968560"/>
              <a:ext cx="172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138480" y="2968560"/>
              <a:ext cx="9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14784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166920" y="2968560"/>
              <a:ext cx="27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19392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213000" y="2968560"/>
              <a:ext cx="176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230640" y="2968560"/>
              <a:ext cx="9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24000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25908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268800" y="2968560"/>
              <a:ext cx="172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28608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30516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314880" y="2968560"/>
              <a:ext cx="172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33216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351240" y="2968560"/>
              <a:ext cx="27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37824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397320" y="2968560"/>
              <a:ext cx="9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406680" y="2968560"/>
              <a:ext cx="176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424320" y="2968560"/>
              <a:ext cx="284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452760" y="2968560"/>
              <a:ext cx="27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47976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49884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517920" y="2968560"/>
              <a:ext cx="79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52584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54492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564000" y="2968560"/>
              <a:ext cx="79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57192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59100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610080" y="2968560"/>
              <a:ext cx="9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619440" y="2968560"/>
              <a:ext cx="176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63708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656160" y="2968560"/>
              <a:ext cx="9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665520" y="2968560"/>
              <a:ext cx="36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70188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711600" y="2968560"/>
              <a:ext cx="172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72888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73860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757680" y="2968560"/>
              <a:ext cx="172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77496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784680" y="2968560"/>
              <a:ext cx="36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82104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83076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849840" y="2968560"/>
              <a:ext cx="27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876840" y="2968560"/>
              <a:ext cx="18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89556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914640" y="2968560"/>
              <a:ext cx="27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941640" y="2968560"/>
              <a:ext cx="27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96864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98772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99744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016520" y="2968560"/>
              <a:ext cx="172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033800" y="2968560"/>
              <a:ext cx="284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062240" y="2968560"/>
              <a:ext cx="176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079880" y="2968560"/>
              <a:ext cx="9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08924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108320" y="2968560"/>
              <a:ext cx="176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125960" y="2968560"/>
              <a:ext cx="9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13532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15440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164120" y="2968560"/>
              <a:ext cx="172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18140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20048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210200" y="2968560"/>
              <a:ext cx="172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22748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246560" y="2968560"/>
              <a:ext cx="9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255920" y="2968560"/>
              <a:ext cx="176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27356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292640" y="2968560"/>
              <a:ext cx="9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302000" y="2968560"/>
              <a:ext cx="176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31964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338720" y="2968560"/>
              <a:ext cx="9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34808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367160" y="2968560"/>
              <a:ext cx="79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37508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39416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413240" y="2968560"/>
              <a:ext cx="79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421160" y="2968560"/>
              <a:ext cx="651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48632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505400" y="2968560"/>
              <a:ext cx="9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514760" y="2968560"/>
              <a:ext cx="176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53240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551480" y="2968560"/>
              <a:ext cx="9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560840" y="2968560"/>
              <a:ext cx="176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578480" y="2968560"/>
              <a:ext cx="284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606920" y="2968560"/>
              <a:ext cx="176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624560" y="2968560"/>
              <a:ext cx="9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633920" y="2968560"/>
              <a:ext cx="36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67028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68000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699080" y="2968560"/>
              <a:ext cx="172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71636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72608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74516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764240" y="2968560"/>
              <a:ext cx="79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77216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791240" y="2968560"/>
              <a:ext cx="9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800600" y="2968560"/>
              <a:ext cx="36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83696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846680" y="2968560"/>
              <a:ext cx="172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863960" y="2968560"/>
              <a:ext cx="288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89276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911840" y="2968560"/>
              <a:ext cx="172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92912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93884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957920" y="2968560"/>
              <a:ext cx="172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97520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984920" y="2968560"/>
              <a:ext cx="18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003640" y="2968560"/>
              <a:ext cx="27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030640" y="2968560"/>
              <a:ext cx="288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059440" y="2968560"/>
              <a:ext cx="172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07672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09580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105520" y="2968560"/>
              <a:ext cx="172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12280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14188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151600" y="2968560"/>
              <a:ext cx="172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16888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187960" y="2968560"/>
              <a:ext cx="9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197320" y="2968560"/>
              <a:ext cx="176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214960" y="2968560"/>
              <a:ext cx="9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22432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243400" y="2968560"/>
              <a:ext cx="176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261040" y="2968560"/>
              <a:ext cx="9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270400" y="2968560"/>
              <a:ext cx="381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2262240" y="2101320"/>
            <a:ext cx="4135320" cy="869040"/>
            <a:chOff x="2262240" y="2101320"/>
            <a:chExt cx="4135320" cy="869040"/>
          </a:xfrm>
        </p:grpSpPr>
        <p:sp>
          <p:nvSpPr>
            <p:cNvPr id="1876" name=""/>
            <p:cNvSpPr/>
            <p:nvPr/>
          </p:nvSpPr>
          <p:spPr>
            <a:xfrm>
              <a:off x="5308560" y="2968560"/>
              <a:ext cx="79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31648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33556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354640" y="2968560"/>
              <a:ext cx="46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400720" y="2968560"/>
              <a:ext cx="9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410080" y="2968560"/>
              <a:ext cx="176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427720" y="2968560"/>
              <a:ext cx="284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456160" y="2968560"/>
              <a:ext cx="27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483160" y="2968560"/>
              <a:ext cx="36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519880" y="2968560"/>
              <a:ext cx="284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548320" y="2968560"/>
              <a:ext cx="27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57532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594400" y="2968560"/>
              <a:ext cx="172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61168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62140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640480" y="2968560"/>
              <a:ext cx="554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695920" y="2968560"/>
              <a:ext cx="176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71356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732640" y="2968560"/>
              <a:ext cx="266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759280" y="2968560"/>
              <a:ext cx="288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78808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807160" y="2968560"/>
              <a:ext cx="172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824440" y="2968560"/>
              <a:ext cx="46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87052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880240" y="2968560"/>
              <a:ext cx="27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907240" y="2968560"/>
              <a:ext cx="18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92596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94504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954760" y="2968560"/>
              <a:ext cx="36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99112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000840" y="2968560"/>
              <a:ext cx="172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01812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03720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046920" y="2968560"/>
              <a:ext cx="172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06420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083280" y="2968560"/>
              <a:ext cx="9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093000" y="2968560"/>
              <a:ext cx="266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119640" y="2968560"/>
              <a:ext cx="36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156360" y="2968560"/>
              <a:ext cx="284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18480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203880" y="2968560"/>
              <a:ext cx="46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249960" y="2968560"/>
              <a:ext cx="79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25788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27696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296040" y="2968560"/>
              <a:ext cx="79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303960" y="2968560"/>
              <a:ext cx="2844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332400" y="2968560"/>
              <a:ext cx="3672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369120" y="2968560"/>
              <a:ext cx="936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378480" y="2968560"/>
              <a:ext cx="1908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2262240" y="2867040"/>
              <a:ext cx="9360" cy="381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271600" y="2867040"/>
              <a:ext cx="1764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>
              <a:off x="2289240" y="2857680"/>
              <a:ext cx="936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>
              <a:off x="2298600" y="2830320"/>
              <a:ext cx="46080" cy="270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2344680" y="2820600"/>
              <a:ext cx="1908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>
              <a:off x="2363760" y="2811600"/>
              <a:ext cx="1764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2381400" y="2784240"/>
              <a:ext cx="37800" cy="270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2419200" y="2738520"/>
              <a:ext cx="46080" cy="4608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V="1">
              <a:off x="2465280" y="2709720"/>
              <a:ext cx="17640" cy="28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2482920" y="2646360"/>
              <a:ext cx="65160" cy="63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2548080" y="2590920"/>
              <a:ext cx="55440" cy="55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V="1">
              <a:off x="2603520" y="2571480"/>
              <a:ext cx="27000" cy="1908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2630520" y="2544480"/>
              <a:ext cx="38160" cy="270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2668680" y="2516040"/>
              <a:ext cx="27000" cy="28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>
              <a:off x="2695680" y="2508120"/>
              <a:ext cx="19080" cy="79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2714760" y="2498760"/>
              <a:ext cx="936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V="1">
              <a:off x="2724120" y="2469960"/>
              <a:ext cx="36720" cy="28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V="1">
              <a:off x="2760840" y="2452320"/>
              <a:ext cx="26640" cy="176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V="1">
              <a:off x="2787480" y="2443320"/>
              <a:ext cx="1908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>
              <a:off x="2806560" y="2414520"/>
              <a:ext cx="36720" cy="28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2843280" y="2387160"/>
              <a:ext cx="46080" cy="270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V="1">
              <a:off x="2889360" y="2378160"/>
              <a:ext cx="1908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2908440" y="2360160"/>
              <a:ext cx="64800" cy="176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2973240" y="2351160"/>
              <a:ext cx="2700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000240" y="2351160"/>
              <a:ext cx="2700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027240" y="2351160"/>
              <a:ext cx="1908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3046320" y="2341080"/>
              <a:ext cx="972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3056040" y="2332080"/>
              <a:ext cx="3636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092400" y="2332080"/>
              <a:ext cx="972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102120" y="2332080"/>
              <a:ext cx="1908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121200" y="2332080"/>
              <a:ext cx="1728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3138480" y="2322000"/>
              <a:ext cx="936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147840" y="2322360"/>
              <a:ext cx="19080" cy="1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V="1">
              <a:off x="3166920" y="2305080"/>
              <a:ext cx="27000" cy="1728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193920" y="2305080"/>
              <a:ext cx="1908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213000" y="2305080"/>
              <a:ext cx="1764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V="1">
              <a:off x="3230640" y="2295000"/>
              <a:ext cx="936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V="1">
              <a:off x="3240000" y="2286000"/>
              <a:ext cx="1908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3259080" y="2276640"/>
              <a:ext cx="972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V="1">
              <a:off x="3268800" y="2258640"/>
              <a:ext cx="17280" cy="176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286080" y="2259000"/>
              <a:ext cx="1908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305160" y="2259000"/>
              <a:ext cx="972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314880" y="2259000"/>
              <a:ext cx="1728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332160" y="2259000"/>
              <a:ext cx="1908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3351240" y="2220840"/>
              <a:ext cx="27000" cy="381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3378240" y="2212920"/>
              <a:ext cx="19080" cy="79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397320" y="2212920"/>
              <a:ext cx="9360" cy="79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V="1">
              <a:off x="3406680" y="2212920"/>
              <a:ext cx="17640" cy="79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3424320" y="2203560"/>
              <a:ext cx="2844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52760" y="2203560"/>
              <a:ext cx="27000" cy="270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479760" y="2230560"/>
              <a:ext cx="1908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3498840" y="2220480"/>
              <a:ext cx="1908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V="1">
              <a:off x="3517920" y="2203560"/>
              <a:ext cx="7920" cy="1728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3525840" y="2193480"/>
              <a:ext cx="1908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544920" y="2193840"/>
              <a:ext cx="19080" cy="270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3564000" y="2203560"/>
              <a:ext cx="7920" cy="1728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571920" y="2203560"/>
              <a:ext cx="19080" cy="1728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V="1">
              <a:off x="3591000" y="2203560"/>
              <a:ext cx="19080" cy="1728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610080" y="2203560"/>
              <a:ext cx="936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619440" y="2203560"/>
              <a:ext cx="1764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637080" y="2203560"/>
              <a:ext cx="1908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3656160" y="2193480"/>
              <a:ext cx="936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665520" y="2193840"/>
              <a:ext cx="36360" cy="1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701880" y="2193840"/>
              <a:ext cx="972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3711600" y="2193480"/>
              <a:ext cx="1728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728880" y="2193840"/>
              <a:ext cx="9720" cy="1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738600" y="2193840"/>
              <a:ext cx="1908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V="1">
              <a:off x="3757680" y="2193480"/>
              <a:ext cx="1728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774960" y="2193840"/>
              <a:ext cx="9720" cy="1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784680" y="2193840"/>
              <a:ext cx="36360" cy="1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821040" y="2193840"/>
              <a:ext cx="972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830760" y="2203560"/>
              <a:ext cx="1908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V="1">
              <a:off x="3849840" y="2193480"/>
              <a:ext cx="2700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876840" y="2193840"/>
              <a:ext cx="1872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3895560" y="2193480"/>
              <a:ext cx="1908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914640" y="2193840"/>
              <a:ext cx="27000" cy="1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3941640" y="2184480"/>
              <a:ext cx="2700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968640" y="2184480"/>
              <a:ext cx="1908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3987720" y="2174400"/>
              <a:ext cx="972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997440" y="2174760"/>
              <a:ext cx="19080" cy="1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016520" y="2174760"/>
              <a:ext cx="17280" cy="1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033800" y="2174760"/>
              <a:ext cx="2844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062240" y="2184480"/>
              <a:ext cx="1764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079880" y="2184480"/>
              <a:ext cx="936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V="1">
              <a:off x="4089240" y="2174400"/>
              <a:ext cx="1908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108320" y="2174760"/>
              <a:ext cx="17640" cy="1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125960" y="2174760"/>
              <a:ext cx="936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135320" y="2184480"/>
              <a:ext cx="1908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V="1">
              <a:off x="4154400" y="2165040"/>
              <a:ext cx="9720" cy="1908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V="1">
              <a:off x="4164120" y="2157480"/>
              <a:ext cx="17280" cy="79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181400" y="2157480"/>
              <a:ext cx="19080" cy="1728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flipV="1">
              <a:off x="4200480" y="2165400"/>
              <a:ext cx="972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210200" y="2165400"/>
              <a:ext cx="1728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227480" y="2165400"/>
              <a:ext cx="1908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246560" y="2165400"/>
              <a:ext cx="936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4255920" y="2165400"/>
              <a:ext cx="1764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4273560" y="2128680"/>
              <a:ext cx="19080" cy="36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V="1">
              <a:off x="4292640" y="2101320"/>
              <a:ext cx="9360" cy="270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302000" y="2101680"/>
              <a:ext cx="17640" cy="270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319640" y="2128680"/>
              <a:ext cx="1908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338720" y="2138400"/>
              <a:ext cx="9360" cy="1908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4348080" y="2157480"/>
              <a:ext cx="1908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4367160" y="2119320"/>
              <a:ext cx="7920" cy="381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375080" y="2119320"/>
              <a:ext cx="19080" cy="381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394160" y="2157480"/>
              <a:ext cx="19080" cy="1728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4413240" y="2157480"/>
              <a:ext cx="7920" cy="1728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421160" y="2157480"/>
              <a:ext cx="65160" cy="1728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486320" y="2174760"/>
              <a:ext cx="19080" cy="1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V="1">
              <a:off x="4505400" y="2165400"/>
              <a:ext cx="936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514760" y="2165400"/>
              <a:ext cx="1764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532400" y="2165400"/>
              <a:ext cx="1908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551480" y="2165400"/>
              <a:ext cx="936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560840" y="2165400"/>
              <a:ext cx="1764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V="1">
              <a:off x="4578480" y="2157480"/>
              <a:ext cx="28440" cy="79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606920" y="2157480"/>
              <a:ext cx="1764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624560" y="2138040"/>
              <a:ext cx="9360" cy="1908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633920" y="2138400"/>
              <a:ext cx="36360" cy="36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670280" y="2147400"/>
              <a:ext cx="9720" cy="270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680000" y="2147760"/>
              <a:ext cx="19080" cy="1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699080" y="2147760"/>
              <a:ext cx="17280" cy="270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716360" y="2174760"/>
              <a:ext cx="9720" cy="1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726080" y="2174760"/>
              <a:ext cx="1908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745160" y="2184480"/>
              <a:ext cx="19080" cy="1908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764240" y="2203560"/>
              <a:ext cx="792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772160" y="2203560"/>
              <a:ext cx="1908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V="1">
              <a:off x="4791240" y="2203560"/>
              <a:ext cx="936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800600" y="2203560"/>
              <a:ext cx="3636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836960" y="2212920"/>
              <a:ext cx="9720" cy="1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846680" y="2212920"/>
              <a:ext cx="17280" cy="1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863960" y="2212920"/>
              <a:ext cx="28800" cy="176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4892760" y="2230560"/>
              <a:ext cx="1908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911840" y="2230560"/>
              <a:ext cx="1728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V="1">
              <a:off x="4929120" y="2212560"/>
              <a:ext cx="9720" cy="176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938840" y="2212920"/>
              <a:ext cx="19080" cy="270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4957920" y="2239920"/>
              <a:ext cx="1728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V="1">
              <a:off x="4975200" y="2239560"/>
              <a:ext cx="972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984920" y="2239920"/>
              <a:ext cx="1872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003640" y="2249640"/>
              <a:ext cx="2700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030640" y="2259000"/>
              <a:ext cx="28800" cy="79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059440" y="2266920"/>
              <a:ext cx="17280" cy="1908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076720" y="2286000"/>
              <a:ext cx="19080" cy="270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095800" y="2313000"/>
              <a:ext cx="9720" cy="28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105520" y="2341440"/>
              <a:ext cx="17280" cy="1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122800" y="2341440"/>
              <a:ext cx="19080" cy="1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141880" y="2341440"/>
              <a:ext cx="972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151600" y="2351160"/>
              <a:ext cx="1728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V="1">
              <a:off x="5168880" y="2341080"/>
              <a:ext cx="1908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187960" y="2341440"/>
              <a:ext cx="9360" cy="1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197320" y="2341440"/>
              <a:ext cx="17640" cy="1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V="1">
              <a:off x="5214960" y="2295360"/>
              <a:ext cx="9360" cy="4608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224320" y="2295360"/>
              <a:ext cx="19080" cy="651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2262240" y="2351160"/>
            <a:ext cx="4135320" cy="534600"/>
            <a:chOff x="2262240" y="2351160"/>
            <a:chExt cx="4135320" cy="534600"/>
          </a:xfrm>
        </p:grpSpPr>
        <p:sp>
          <p:nvSpPr>
            <p:cNvPr id="2077" name=""/>
            <p:cNvSpPr/>
            <p:nvPr/>
          </p:nvSpPr>
          <p:spPr>
            <a:xfrm flipV="1">
              <a:off x="5243400" y="2351160"/>
              <a:ext cx="1764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261040" y="2351160"/>
              <a:ext cx="936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270400" y="2351160"/>
              <a:ext cx="38160" cy="270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V="1">
              <a:off x="5308560" y="2368080"/>
              <a:ext cx="792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316480" y="2368440"/>
              <a:ext cx="19080" cy="1908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335560" y="2387520"/>
              <a:ext cx="19080" cy="1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V="1">
              <a:off x="5354640" y="2378160"/>
              <a:ext cx="4608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400720" y="2378160"/>
              <a:ext cx="936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410080" y="2378160"/>
              <a:ext cx="1764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427720" y="2378160"/>
              <a:ext cx="2844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456160" y="2387520"/>
              <a:ext cx="27000" cy="270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V="1">
              <a:off x="5483160" y="2406600"/>
              <a:ext cx="36720" cy="79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519880" y="2406600"/>
              <a:ext cx="28440" cy="79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548320" y="2414520"/>
              <a:ext cx="27000" cy="1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575320" y="2414520"/>
              <a:ext cx="1908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594400" y="2424240"/>
              <a:ext cx="17280" cy="28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5611680" y="2443320"/>
              <a:ext cx="972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621400" y="2443320"/>
              <a:ext cx="1908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640480" y="2452680"/>
              <a:ext cx="5544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695920" y="2452680"/>
              <a:ext cx="1764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713560" y="2452680"/>
              <a:ext cx="1908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732640" y="2452680"/>
              <a:ext cx="26640" cy="176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759280" y="2470320"/>
              <a:ext cx="28800" cy="18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V="1">
              <a:off x="5788080" y="2479680"/>
              <a:ext cx="1908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V="1">
              <a:off x="5807160" y="2470320"/>
              <a:ext cx="1728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824440" y="2470320"/>
              <a:ext cx="46080" cy="18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870520" y="2489040"/>
              <a:ext cx="9720" cy="1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880240" y="2489040"/>
              <a:ext cx="2700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907240" y="2498760"/>
              <a:ext cx="1872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V="1">
              <a:off x="5925960" y="2488680"/>
              <a:ext cx="1908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945040" y="2489040"/>
              <a:ext cx="972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954760" y="2498760"/>
              <a:ext cx="3636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991120" y="2498760"/>
              <a:ext cx="972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000840" y="2498760"/>
              <a:ext cx="17280" cy="1728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018120" y="2516040"/>
              <a:ext cx="19080" cy="1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037200" y="2516040"/>
              <a:ext cx="9720" cy="1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046920" y="2516040"/>
              <a:ext cx="1728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V="1">
              <a:off x="6064200" y="2515680"/>
              <a:ext cx="1908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6083280" y="2498760"/>
              <a:ext cx="9720" cy="1728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6093000" y="2498760"/>
              <a:ext cx="26640" cy="1728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6119640" y="2516040"/>
              <a:ext cx="3672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V="1">
              <a:off x="6156360" y="2507760"/>
              <a:ext cx="28440" cy="176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184800" y="2508120"/>
              <a:ext cx="19080" cy="270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6203880" y="2525760"/>
              <a:ext cx="4608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249960" y="2525760"/>
              <a:ext cx="7920" cy="1908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257880" y="2544840"/>
              <a:ext cx="19080" cy="1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V="1">
              <a:off x="6276960" y="2516040"/>
              <a:ext cx="19080" cy="288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296040" y="2516040"/>
              <a:ext cx="7920" cy="97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303960" y="2525760"/>
              <a:ext cx="2844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V="1">
              <a:off x="6332400" y="2525760"/>
              <a:ext cx="36720" cy="93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369120" y="2525760"/>
              <a:ext cx="9360" cy="28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V="1">
              <a:off x="6378480" y="2525400"/>
              <a:ext cx="19080" cy="2844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V="1">
              <a:off x="2262240" y="2866680"/>
              <a:ext cx="9360" cy="190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271600" y="2867040"/>
              <a:ext cx="1764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289240" y="2867040"/>
              <a:ext cx="93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298600" y="2867040"/>
              <a:ext cx="46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34468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363760" y="2867040"/>
              <a:ext cx="1764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381400" y="2867040"/>
              <a:ext cx="3780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419200" y="2867040"/>
              <a:ext cx="46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2465280" y="2867040"/>
              <a:ext cx="1764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482920" y="2867040"/>
              <a:ext cx="651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548080" y="2867040"/>
              <a:ext cx="5544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603520" y="2867040"/>
              <a:ext cx="2700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630520" y="2867040"/>
              <a:ext cx="381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668680" y="2867040"/>
              <a:ext cx="2700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69568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714760" y="2867040"/>
              <a:ext cx="93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724120" y="2867040"/>
              <a:ext cx="36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760840" y="2867040"/>
              <a:ext cx="2664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78748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806560" y="2867040"/>
              <a:ext cx="36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843280" y="2867040"/>
              <a:ext cx="46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88936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908440" y="2867040"/>
              <a:ext cx="6480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973240" y="2867040"/>
              <a:ext cx="2700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000240" y="2867040"/>
              <a:ext cx="2700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02724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046320" y="2867040"/>
              <a:ext cx="9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056040" y="2867040"/>
              <a:ext cx="363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092400" y="2867040"/>
              <a:ext cx="9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10212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121200" y="2867040"/>
              <a:ext cx="172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138480" y="2867040"/>
              <a:ext cx="93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14784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166920" y="2867040"/>
              <a:ext cx="2700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19392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213000" y="2867040"/>
              <a:ext cx="1764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230640" y="2867040"/>
              <a:ext cx="93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24000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259080" y="2867040"/>
              <a:ext cx="9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268800" y="2867040"/>
              <a:ext cx="172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28608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305160" y="2867040"/>
              <a:ext cx="9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314880" y="2867040"/>
              <a:ext cx="172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33216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351240" y="2867040"/>
              <a:ext cx="2700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37824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397320" y="2867040"/>
              <a:ext cx="93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406680" y="2867040"/>
              <a:ext cx="1764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424320" y="2867040"/>
              <a:ext cx="2844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452760" y="2867040"/>
              <a:ext cx="2700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7976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49884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517920" y="2867040"/>
              <a:ext cx="79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52584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54492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564000" y="2867040"/>
              <a:ext cx="79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57192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59100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610080" y="2867040"/>
              <a:ext cx="93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619440" y="2867040"/>
              <a:ext cx="1764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63708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656160" y="2867040"/>
              <a:ext cx="93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665520" y="2867040"/>
              <a:ext cx="363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701880" y="2867040"/>
              <a:ext cx="9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711600" y="2867040"/>
              <a:ext cx="172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728880" y="2867040"/>
              <a:ext cx="9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73860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757680" y="2867040"/>
              <a:ext cx="172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774960" y="2867040"/>
              <a:ext cx="9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784680" y="2867040"/>
              <a:ext cx="363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21040" y="2867040"/>
              <a:ext cx="9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83076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849840" y="2867040"/>
              <a:ext cx="2700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876840" y="2867040"/>
              <a:ext cx="18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89556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914640" y="2867040"/>
              <a:ext cx="2700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941640" y="2867040"/>
              <a:ext cx="2700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96864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987720" y="2867040"/>
              <a:ext cx="9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99744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016520" y="2867040"/>
              <a:ext cx="172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033800" y="2867040"/>
              <a:ext cx="2844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062240" y="2867040"/>
              <a:ext cx="1764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079880" y="2867040"/>
              <a:ext cx="93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08924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108320" y="2867040"/>
              <a:ext cx="1764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125960" y="2867040"/>
              <a:ext cx="93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13532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154400" y="2867040"/>
              <a:ext cx="9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164120" y="2867040"/>
              <a:ext cx="172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18140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200480" y="2867040"/>
              <a:ext cx="9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210200" y="2867040"/>
              <a:ext cx="172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22748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246560" y="2867040"/>
              <a:ext cx="93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255920" y="2867040"/>
              <a:ext cx="1764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27356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292640" y="2867040"/>
              <a:ext cx="93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302000" y="2867040"/>
              <a:ext cx="1764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31964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338720" y="2867040"/>
              <a:ext cx="93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34808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367160" y="2867040"/>
              <a:ext cx="79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37508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39416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413240" y="2867040"/>
              <a:ext cx="79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421160" y="2867040"/>
              <a:ext cx="651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48632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505400" y="2867040"/>
              <a:ext cx="93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514760" y="2867040"/>
              <a:ext cx="1764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53240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551480" y="2867040"/>
              <a:ext cx="93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560840" y="2867040"/>
              <a:ext cx="1764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578480" y="2867040"/>
              <a:ext cx="2844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606920" y="2867040"/>
              <a:ext cx="1764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624560" y="2867040"/>
              <a:ext cx="93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633920" y="2867040"/>
              <a:ext cx="363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670280" y="2867040"/>
              <a:ext cx="9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68000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699080" y="2867040"/>
              <a:ext cx="172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716360" y="2867040"/>
              <a:ext cx="9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72608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74516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764240" y="2867040"/>
              <a:ext cx="79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77216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791240" y="2867040"/>
              <a:ext cx="93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800600" y="2867040"/>
              <a:ext cx="363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836960" y="2867040"/>
              <a:ext cx="9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846680" y="2867040"/>
              <a:ext cx="172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863960" y="2867040"/>
              <a:ext cx="2880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89276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911840" y="2867040"/>
              <a:ext cx="172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929120" y="2867040"/>
              <a:ext cx="9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93884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957920" y="2867040"/>
              <a:ext cx="172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975200" y="2867040"/>
              <a:ext cx="9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984920" y="2867040"/>
              <a:ext cx="18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003640" y="2867040"/>
              <a:ext cx="2700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030640" y="2867040"/>
              <a:ext cx="2880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059440" y="2867040"/>
              <a:ext cx="172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07672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095800" y="2867040"/>
              <a:ext cx="9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105520" y="2867040"/>
              <a:ext cx="172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12280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141880" y="2867040"/>
              <a:ext cx="9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151600" y="2867040"/>
              <a:ext cx="172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168880" y="2867040"/>
              <a:ext cx="1908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187960" y="2867040"/>
              <a:ext cx="936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7" name=""/>
          <p:cNvSpPr/>
          <p:nvPr/>
        </p:nvSpPr>
        <p:spPr>
          <a:xfrm>
            <a:off x="5197320" y="2867040"/>
            <a:ext cx="1764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214960" y="2867040"/>
            <a:ext cx="936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5224320" y="2867040"/>
            <a:ext cx="1908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5243400" y="2867040"/>
            <a:ext cx="1764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5261040" y="2867040"/>
            <a:ext cx="936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270400" y="2867040"/>
            <a:ext cx="3816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308560" y="2867040"/>
            <a:ext cx="792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316480" y="2867040"/>
            <a:ext cx="1908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5335560" y="2867040"/>
            <a:ext cx="1908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54640" y="2867040"/>
            <a:ext cx="4608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400720" y="2867040"/>
            <a:ext cx="936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410080" y="2867040"/>
            <a:ext cx="1764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5427720" y="2867040"/>
            <a:ext cx="2844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5456160" y="2867040"/>
            <a:ext cx="2700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5483160" y="2867040"/>
            <a:ext cx="3672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5519880" y="2867040"/>
            <a:ext cx="2844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5548320" y="2867040"/>
            <a:ext cx="2700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5575320" y="2867040"/>
            <a:ext cx="1908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5594400" y="2867040"/>
            <a:ext cx="1728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5611680" y="2867040"/>
            <a:ext cx="972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5621400" y="2867040"/>
            <a:ext cx="1908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5640480" y="2867040"/>
            <a:ext cx="5544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5695920" y="2867040"/>
            <a:ext cx="1764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713560" y="2867040"/>
            <a:ext cx="1908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732640" y="2867040"/>
            <a:ext cx="2664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759280" y="2867040"/>
            <a:ext cx="2880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788080" y="2867040"/>
            <a:ext cx="1908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5807160" y="2867040"/>
            <a:ext cx="1728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5824440" y="2867040"/>
            <a:ext cx="4608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5870520" y="2867040"/>
            <a:ext cx="972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5880240" y="2867040"/>
            <a:ext cx="2700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5907240" y="2867040"/>
            <a:ext cx="1872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5925960" y="2867040"/>
            <a:ext cx="1908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5945040" y="2867040"/>
            <a:ext cx="972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954760" y="2867040"/>
            <a:ext cx="3636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5991120" y="2867040"/>
            <a:ext cx="972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000840" y="2867040"/>
            <a:ext cx="1728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6018120" y="2867040"/>
            <a:ext cx="1908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6037200" y="2867040"/>
            <a:ext cx="972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6046920" y="2867040"/>
            <a:ext cx="1728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6064200" y="2867040"/>
            <a:ext cx="1908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6083280" y="2867040"/>
            <a:ext cx="972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6093000" y="2867040"/>
            <a:ext cx="2664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6119640" y="2867040"/>
            <a:ext cx="3672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6156360" y="2867040"/>
            <a:ext cx="2844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6184800" y="2867040"/>
            <a:ext cx="1908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6203880" y="2867040"/>
            <a:ext cx="4608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6249960" y="2867040"/>
            <a:ext cx="792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6257880" y="2867040"/>
            <a:ext cx="1908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6276960" y="2867040"/>
            <a:ext cx="1908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6296040" y="2867040"/>
            <a:ext cx="792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6303960" y="2867040"/>
            <a:ext cx="2844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332400" y="2867040"/>
            <a:ext cx="3672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369120" y="2867040"/>
            <a:ext cx="936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378480" y="2867040"/>
            <a:ext cx="1908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2240640" y="763560"/>
            <a:ext cx="4658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emperature versus time during ONC#1 Calib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1569600" y="498168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1615680" y="437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533240" y="3753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533240" y="3144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1533240" y="25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533240" y="1916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1533240" y="1298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1578600" y="520236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/1/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1671120" y="53960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: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2454840" y="520236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/1/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2510640" y="53960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: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3323160" y="520236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/1/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377520" y="53960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: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199400" y="520236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/2/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4291920" y="53960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: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5075640" y="520236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/2/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5168160" y="53960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: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5944320" y="520236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/2/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036480" y="53960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: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820560" y="520236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/2/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876360" y="53960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: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4276440" y="5592600"/>
            <a:ext cx="29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 rot="16200000">
            <a:off x="221400" y="3296520"/>
            <a:ext cx="1919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mperature in degrees Cels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7135920" y="2009880"/>
            <a:ext cx="820800" cy="2224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7191360" y="2138400"/>
            <a:ext cx="22068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7448760" y="2046240"/>
            <a:ext cx="38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B-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7191360" y="2360520"/>
            <a:ext cx="220680" cy="1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7448760" y="2266920"/>
            <a:ext cx="38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B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7191360" y="2581200"/>
            <a:ext cx="220680" cy="18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7448760" y="2489040"/>
            <a:ext cx="38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B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7191360" y="2803680"/>
            <a:ext cx="22068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7448760" y="2709720"/>
            <a:ext cx="38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B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7191360" y="3024360"/>
            <a:ext cx="220680" cy="144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7448760" y="2932200"/>
            <a:ext cx="38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B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191360" y="3246480"/>
            <a:ext cx="220680" cy="144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448760" y="3154320"/>
            <a:ext cx="38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B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7191360" y="3467160"/>
            <a:ext cx="220680" cy="144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448760" y="3375000"/>
            <a:ext cx="38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B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191360" y="3689280"/>
            <a:ext cx="220680" cy="180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7448760" y="3597120"/>
            <a:ext cx="38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B-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7191360" y="3909960"/>
            <a:ext cx="220680" cy="18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448760" y="3817800"/>
            <a:ext cx="38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B-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7191360" y="4132440"/>
            <a:ext cx="220680" cy="1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7448760" y="4040280"/>
            <a:ext cx="38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B-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960480" y="596880"/>
            <a:ext cx="7051680" cy="5214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85800" y="632448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3 - Temperature plo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9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391520" cy="5495760"/>
          </a:xfrm>
          <a:prstGeom prst="rect">
            <a:avLst/>
          </a:prstGeom>
          <a:ln w="0">
            <a:noFill/>
          </a:ln>
        </p:spPr>
      </p:pic>
      <p:sp>
        <p:nvSpPr>
          <p:cNvPr id="2380" name=""/>
          <p:cNvSpPr/>
          <p:nvPr/>
        </p:nvSpPr>
        <p:spPr>
          <a:xfrm>
            <a:off x="685800" y="632448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4 - Pressure versus time plot for the unsaturated zone pro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1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718400" cy="5241960"/>
          </a:xfrm>
          <a:prstGeom prst="rect">
            <a:avLst/>
          </a:prstGeom>
          <a:ln w="0">
            <a:noFill/>
          </a:ln>
        </p:spPr>
      </p:pic>
      <p:sp>
        <p:nvSpPr>
          <p:cNvPr id="2382" name=""/>
          <p:cNvSpPr/>
          <p:nvPr/>
        </p:nvSpPr>
        <p:spPr>
          <a:xfrm>
            <a:off x="685800" y="632448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5 - Pressure versus time for saturated zone pro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3" name="on99novt" descr=""/>
          <p:cNvPicPr/>
          <p:nvPr/>
        </p:nvPicPr>
        <p:blipFill>
          <a:blip r:embed="rId1"/>
          <a:stretch/>
        </p:blipFill>
        <p:spPr>
          <a:xfrm>
            <a:off x="874800" y="555480"/>
            <a:ext cx="7283520" cy="5302440"/>
          </a:xfrm>
          <a:prstGeom prst="rect">
            <a:avLst/>
          </a:prstGeom>
          <a:ln w="0">
            <a:noFill/>
          </a:ln>
        </p:spPr>
      </p:pic>
      <p:sp>
        <p:nvSpPr>
          <p:cNvPr id="2384" name=""/>
          <p:cNvSpPr/>
          <p:nvPr/>
        </p:nvSpPr>
        <p:spPr>
          <a:xfrm>
            <a:off x="685800" y="632448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6 - Temperature versus time for probes engaged prior to calib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5" name="on99novp" descr=""/>
          <p:cNvPicPr/>
          <p:nvPr/>
        </p:nvPicPr>
        <p:blipFill>
          <a:blip r:embed="rId1"/>
          <a:stretch/>
        </p:blipFill>
        <p:spPr>
          <a:xfrm>
            <a:off x="1006560" y="541440"/>
            <a:ext cx="7284960" cy="5303880"/>
          </a:xfrm>
          <a:prstGeom prst="rect">
            <a:avLst/>
          </a:prstGeom>
          <a:ln w="0">
            <a:noFill/>
          </a:ln>
        </p:spPr>
      </p:pic>
      <p:sp>
        <p:nvSpPr>
          <p:cNvPr id="2386" name=""/>
          <p:cNvSpPr/>
          <p:nvPr/>
        </p:nvSpPr>
        <p:spPr>
          <a:xfrm>
            <a:off x="685800" y="632448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7 - Pressure versus time for probes engaged prior to calib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7" name="on99novw" descr=""/>
          <p:cNvPicPr/>
          <p:nvPr/>
        </p:nvPicPr>
        <p:blipFill>
          <a:blip r:embed="rId1"/>
          <a:stretch/>
        </p:blipFill>
        <p:spPr>
          <a:xfrm>
            <a:off x="828720" y="533520"/>
            <a:ext cx="7284960" cy="5303880"/>
          </a:xfrm>
          <a:prstGeom prst="rect">
            <a:avLst/>
          </a:prstGeom>
          <a:ln w="0">
            <a:noFill/>
          </a:ln>
        </p:spPr>
      </p:pic>
      <p:sp>
        <p:nvSpPr>
          <p:cNvPr id="2388" name=""/>
          <p:cNvSpPr/>
          <p:nvPr/>
        </p:nvSpPr>
        <p:spPr>
          <a:xfrm>
            <a:off x="685800" y="632448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8 - Piezometric level versus time for probes engaged prior to calib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9" name="" descr=""/>
          <p:cNvPicPr/>
          <p:nvPr/>
        </p:nvPicPr>
        <p:blipFill>
          <a:blip r:embed="rId1"/>
          <a:stretch/>
        </p:blipFill>
        <p:spPr>
          <a:xfrm>
            <a:off x="639720" y="633240"/>
            <a:ext cx="7559640" cy="5062680"/>
          </a:xfrm>
          <a:prstGeom prst="rect">
            <a:avLst/>
          </a:prstGeom>
          <a:ln w="0">
            <a:noFill/>
          </a:ln>
        </p:spPr>
      </p:pic>
      <p:sp>
        <p:nvSpPr>
          <p:cNvPr id="2390" name=""/>
          <p:cNvSpPr/>
          <p:nvPr/>
        </p:nvSpPr>
        <p:spPr>
          <a:xfrm>
            <a:off x="685800" y="632448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9 - Deviation of measured pressure relative to the atmospheric probe PRB-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1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001000" cy="5153040"/>
          </a:xfrm>
          <a:prstGeom prst="rect">
            <a:avLst/>
          </a:prstGeom>
          <a:ln w="0">
            <a:noFill/>
          </a:ln>
        </p:spPr>
      </p:pic>
      <p:sp>
        <p:nvSpPr>
          <p:cNvPr id="2392" name=""/>
          <p:cNvSpPr/>
          <p:nvPr/>
        </p:nvSpPr>
        <p:spPr>
          <a:xfrm>
            <a:off x="685800" y="632448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20 - Comparison of pressure gradient calculated by A-T2VOC and downhole measur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4T05:01:07Z</dcterms:created>
  <dc:creator>Parviz Montazer</dc:creator>
  <dc:description/>
  <dc:language>en-US</dc:language>
  <cp:lastModifiedBy>Cheryl A. Little</cp:lastModifiedBy>
  <cp:lastPrinted>2000-09-18T16:43:57Z</cp:lastPrinted>
  <dcterms:modified xsi:type="dcterms:W3CDTF">2000-11-28T22:50:44Z</dcterms:modified>
  <cp:revision>25</cp:revision>
  <dc:subject/>
  <dc:title>No Slide Title</dc:title>
</cp:coreProperties>
</file>